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13004800" cy="975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345-E5A6-428B-8C7F-0704E869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6A2-14DA-4492-B799-075C5D41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171-0982-4E4D-8538-0BC71CB2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728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647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647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7C82-1125-4D92-ABEE-55D8AF43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5F75-8ED1-49D2-AC70-33B69AA4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BE26-6E4F-4D55-8388-FDED2A9B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70C7-7748-400B-82F0-6EB86ABA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E80A-D373-49BD-B83D-ECC77D3B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4F09-62EC-4386-BDDF-13BCC5A5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88360" y="758520"/>
            <a:ext cx="7260480" cy="18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F842-DF41-453F-BD8F-EBAACA41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AAC1-BA10-40F2-85C6-E109B9F1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C4B-ABA5-41D1-83FA-CA9CF72A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C8D5-58EE-4D86-9DED-1D28E06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38E2-9C80-4395-AFDB-CC44C14E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643C-6124-43B1-9FDA-3D04E1C6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785B-A8E7-43A2-BADB-BB38C945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0728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647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5647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03DF-E49C-4CFA-B62A-607C6B9A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4BAA2-B22A-47AE-8D14-CD547605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24F26-DDDE-48EB-A0D0-A177388C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7B26-2918-4DA7-A20D-6CBE5B35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6C9FA-F7A7-48EC-8FEC-277FB8FB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A371-CE6C-48A3-A185-A8645000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318-E2B1-44F7-A739-60493B22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788360" y="758520"/>
            <a:ext cx="7260480" cy="18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AD8C-C16F-4825-A630-2073BA96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EB47-DA6C-4753-B029-F1ACD177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24801-5591-4CA9-B87B-D7D3F34D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64D8D-E80A-4532-930A-3EF1A8C0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84537-63E6-49D0-8DE4-A4E389CC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59EC2-2E85-4F33-87B6-EF9A662CD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0728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5647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5647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B5A93-B1C0-45DA-A3F4-4C3367CA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FD233-F4BF-45EA-930E-1F7BAF9B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27C0E-2F38-49F9-B35F-32B1DFB9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FC29-D8B0-4FF3-82A2-63A839FA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450-B5F9-478D-9EC9-EF49A827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5BEB2-6506-4935-9AD9-02DE909D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19732-95DC-4785-A872-6BE445A1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88360" y="758520"/>
            <a:ext cx="7260480" cy="18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EABF-0EB0-4682-AA85-7CEEE3FC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F1A1-9F6E-4DBC-9643-105B1241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7B83A-C948-4687-AEDA-3186475B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32D2-F0E9-47F1-A617-1496C15B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7D989-3FD1-440E-9F5D-A0AAE983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772B-52EF-434B-85EB-6F22DB35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0728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647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5647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CFA74-BFB6-4062-BBBE-0643E355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0F305-887C-4737-B2EF-A0E5EB5B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FE8-A0B4-40D8-80EF-C729FE71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F2668-9E83-4821-972D-59E85E84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0F830-BF42-41C2-AADF-66D944F5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B179B-7BC8-4057-B067-527E64CC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AA072-17B4-43E6-888D-978C39CA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788360" y="758520"/>
            <a:ext cx="7260480" cy="18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050CD-9246-46BA-83AC-5AA31098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E664B-7691-4D56-9521-0680DCC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F4CC-A6E8-45FC-B20A-83AF8A37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694D7-48E9-445B-803B-6EB7E836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C88CA-6043-420F-9B5D-DA459EB5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5F3B8-0E53-49EE-B07E-0DDFB325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788360" y="758520"/>
            <a:ext cx="7260480" cy="18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B13-39A1-4AD2-9431-56368052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728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5647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5647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67F32-5FD4-455A-B483-71715FB6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D58AA-B9FA-426E-A2E6-C045AC08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32A10-885F-45BB-9341-9F0C80EF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133C8-148C-494D-BE76-E9D4DE1C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08F0D-FC4C-4D89-A759-38080DBB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BC2AC-CC10-49ED-9984-30D4B083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788360" y="758520"/>
            <a:ext cx="7260480" cy="18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8202B-48F7-4E3D-B0A8-E91066C2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5057B-0675-4F90-B45E-27DF930E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09968-6756-4DE6-B77D-76E751FF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A26BE-B1DC-40F4-B4F7-0886BCD4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F70-EFEE-4F2C-982B-5457DA2B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BD33A-FCB5-43E4-AEF0-157F01AE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077F4-A34F-470C-A260-D43A039D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0728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5647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85647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F42E7-611A-476F-8E62-43165120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CCF1F-B03A-4BC7-A705-95C4E0AF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56212-FED4-4E0F-BB09-ED711641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9491A-6585-4841-A5AA-055F5C86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1F2A9-270D-40AB-AABF-FC8054A1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537A0-6D68-40DC-BC82-5F82B829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88360" y="758520"/>
            <a:ext cx="7260480" cy="18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FABA-83D4-4CF8-A49D-29A2840C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4652E-5005-4E4E-A605-BD7DF57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717D-DB43-4EA7-A5C0-1802847F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74C29-2C44-4533-91E3-EC0D816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FC4D6-6C08-4260-BF98-DAA9D3FA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C31AE-0971-4C44-A9D1-EBF6153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16B26-5B6A-4DED-BFC5-7F0C62B3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728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7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7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A069D-0D82-46A3-BAE2-DEEDD42C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D35FE-366C-42EB-86DD-EBCE1590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2336F-BB96-4686-858F-3B9E3EC2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F5BE9-29F1-4FE2-B9FB-B9AF8E95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101E2-B0AB-4EA4-815E-7F8EA0F0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77590-A4C6-4999-BDB3-83FA193B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854-C3B6-40D4-B4E0-684339C8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788360" y="758520"/>
            <a:ext cx="7260480" cy="18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6F4E1-2F36-4BDD-A806-DC6FE151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23F11-4B99-4DC1-BFAC-FD6AB906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9957F-020A-4B3C-92B0-F383A0B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9A53F-CF7F-4495-A364-F0B893E5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360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A22C1-5A90-4187-AD68-24E1DACF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47040" y="228204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47040" y="5236560"/>
            <a:ext cx="571104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7A7E5-A102-460C-B0A9-C3CA92EA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0728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564760" y="228204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60728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564760" y="5236560"/>
            <a:ext cx="37684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26222-6519-4977-8DDC-81FD77D5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H="1">
            <a:off x="11595960" y="0"/>
            <a:ext cx="1408320" cy="975312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chemeClr val="lt1"/>
              </a:solidFill>
              <a:latin typeface="Trebuchet MS"/>
              <a:ea typeface="Chalkduster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ga-IE" sz="54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ga-IE" sz="3700" spc="-1" strike="noStrike">
                <a:solidFill>
                  <a:srgbClr val="000000"/>
                </a:solidFill>
                <a:latin typeface="Trebuchet MS"/>
              </a:rPr>
              <a:t>Click to edit Master text style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325080">
              <a:lnSpc>
                <a:spcPct val="100000"/>
              </a:lnSpc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ga-IE" sz="3300" spc="-1" strike="noStrike">
                <a:solidFill>
                  <a:srgbClr val="6f6f6f"/>
                </a:solidFill>
                <a:latin typeface="Trebuchet MS"/>
              </a:rPr>
              <a:t>Second level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2" marL="107928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ga-IE" sz="2800" spc="-1" strike="noStrike">
                <a:solidFill>
                  <a:srgbClr val="000000"/>
                </a:solidFill>
                <a:latin typeface="Trebuchet MS"/>
              </a:rPr>
              <a:t>Third level</a:t>
            </a:r>
            <a:endParaRPr b="0" lang="en-US" sz="2800" spc="-1" strike="noStrike">
              <a:solidFill>
                <a:srgbClr val="6f6f6f"/>
              </a:solidFill>
              <a:latin typeface="Trebuchet MS"/>
            </a:endParaRPr>
          </a:p>
          <a:p>
            <a:pPr lvl="3" marL="1430280" indent="-325080">
              <a:lnSpc>
                <a:spcPct val="100000"/>
              </a:lnSpc>
              <a:spcBef>
                <a:spcPts val="561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ga-IE" sz="2800" spc="-1" strike="noStrike">
                <a:solidFill>
                  <a:srgbClr val="6f6f6f"/>
                </a:solidFill>
                <a:latin typeface="Trebuchet MS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052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ga-IE" sz="2600" spc="-1" strike="noStrike">
                <a:solidFill>
                  <a:srgbClr val="000000"/>
                </a:solidFill>
                <a:latin typeface="Trebuchet MS"/>
              </a:rPr>
              <a:t>Fifth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38640" y="9326880"/>
            <a:ext cx="2847600" cy="32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b13f9a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b13f9a"/>
                </a:solidFill>
                <a:latin typeface="Chalkduster"/>
                <a:ea typeface="Chalkdust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50160" y="9326880"/>
            <a:ext cx="5201640" cy="324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890920" y="9324360"/>
            <a:ext cx="836280" cy="3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600" spc="-1" strike="noStrike">
                <a:solidFill>
                  <a:srgbClr val="b13f9a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B27D0F-58F6-4262-8B26-6C8A3F22C3B8}" type="slidenum">
              <a:rPr b="0" lang="en-GB" sz="1600" spc="-1" strike="noStrike">
                <a:solidFill>
                  <a:srgbClr val="b13f9a"/>
                </a:solidFill>
                <a:latin typeface="Chalkduster"/>
                <a:ea typeface="Chalkduster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 flipH="1">
            <a:off x="11595960" y="0"/>
            <a:ext cx="1408320" cy="975312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chemeClr val="lt1"/>
              </a:solidFill>
              <a:latin typeface="Trebuchet MS"/>
              <a:ea typeface="Chalkduster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ga-IE" sz="54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ga-IE" sz="3700" spc="-1" strike="noStrike">
                <a:solidFill>
                  <a:srgbClr val="000000"/>
                </a:solidFill>
                <a:latin typeface="Trebuchet MS"/>
              </a:rPr>
              <a:t>Click to edit Master text style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325080">
              <a:lnSpc>
                <a:spcPct val="100000"/>
              </a:lnSpc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ga-IE" sz="3300" spc="-1" strike="noStrike">
                <a:solidFill>
                  <a:srgbClr val="6f6f6f"/>
                </a:solidFill>
                <a:latin typeface="Trebuchet MS"/>
              </a:rPr>
              <a:t>Second level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2" marL="107928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ga-IE" sz="2800" spc="-1" strike="noStrike">
                <a:solidFill>
                  <a:srgbClr val="000000"/>
                </a:solidFill>
                <a:latin typeface="Trebuchet MS"/>
              </a:rPr>
              <a:t>Third level</a:t>
            </a:r>
            <a:endParaRPr b="0" lang="en-US" sz="2800" spc="-1" strike="noStrike">
              <a:solidFill>
                <a:srgbClr val="6f6f6f"/>
              </a:solidFill>
              <a:latin typeface="Trebuchet MS"/>
            </a:endParaRPr>
          </a:p>
          <a:p>
            <a:pPr lvl="3" marL="1430640" indent="-325080">
              <a:lnSpc>
                <a:spcPct val="100000"/>
              </a:lnSpc>
              <a:spcBef>
                <a:spcPts val="561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ga-IE" sz="2800" spc="-1" strike="noStrike">
                <a:solidFill>
                  <a:srgbClr val="6f6f6f"/>
                </a:solidFill>
                <a:latin typeface="Trebuchet MS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052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ga-IE" sz="2600" spc="-1" strike="noStrike">
                <a:solidFill>
                  <a:srgbClr val="000000"/>
                </a:solidFill>
                <a:latin typeface="Trebuchet MS"/>
              </a:rPr>
              <a:t>Fifth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38640" y="9326880"/>
            <a:ext cx="2847600" cy="32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50160" y="9326880"/>
            <a:ext cx="5201640" cy="324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890920" y="9324360"/>
            <a:ext cx="836280" cy="3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600" spc="-1" strike="noStrike">
                <a:solidFill>
                  <a:srgbClr val="8b8b8b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D637F8-A8BB-4DFA-91D6-EC008CE690AD}" type="slidenum">
              <a:rPr b="0" lang="en-GB" sz="1600" spc="-1" strike="noStrike">
                <a:solidFill>
                  <a:srgbClr val="8b8b8b"/>
                </a:solidFill>
                <a:latin typeface="Chalkduster"/>
                <a:ea typeface="Chalkduster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 flipH="1">
            <a:off x="11595960" y="0"/>
            <a:ext cx="1408320" cy="975312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chemeClr val="lt1"/>
              </a:solidFill>
              <a:latin typeface="Trebuchet MS"/>
              <a:ea typeface="Chalkduster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ga-IE" sz="54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129960" bIns="129960" anchor="t">
            <a:no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ga-IE" sz="3700" spc="-1" strike="noStrike">
                <a:solidFill>
                  <a:srgbClr val="000000"/>
                </a:solidFill>
                <a:latin typeface="Trebuchet MS"/>
              </a:rPr>
              <a:t>Click to edit Master text style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325080">
              <a:lnSpc>
                <a:spcPct val="100000"/>
              </a:lnSpc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ga-IE" sz="3300" spc="-1" strike="noStrike">
                <a:solidFill>
                  <a:srgbClr val="6f6f6f"/>
                </a:solidFill>
                <a:latin typeface="Trebuchet MS"/>
              </a:rPr>
              <a:t>Second level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lvl="2" marL="107928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ga-IE" sz="2800" spc="-1" strike="noStrike">
                <a:solidFill>
                  <a:srgbClr val="000000"/>
                </a:solidFill>
                <a:latin typeface="Trebuchet MS"/>
              </a:rPr>
              <a:t>Third level</a:t>
            </a:r>
            <a:endParaRPr b="0" lang="en-US" sz="2800" spc="-1" strike="noStrike">
              <a:solidFill>
                <a:srgbClr val="6f6f6f"/>
              </a:solidFill>
              <a:latin typeface="Trebuchet MS"/>
            </a:endParaRPr>
          </a:p>
          <a:p>
            <a:pPr lvl="3" marL="1430280" indent="-325080">
              <a:lnSpc>
                <a:spcPct val="100000"/>
              </a:lnSpc>
              <a:spcBef>
                <a:spcPts val="561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ga-IE" sz="2800" spc="-1" strike="noStrike">
                <a:solidFill>
                  <a:srgbClr val="6f6f6f"/>
                </a:solidFill>
                <a:latin typeface="Trebuchet MS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052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ga-IE" sz="2600" spc="-1" strike="noStrike">
                <a:solidFill>
                  <a:srgbClr val="000000"/>
                </a:solidFill>
                <a:latin typeface="Trebuchet MS"/>
              </a:rPr>
              <a:t>Fifth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38640" y="9326880"/>
            <a:ext cx="2847600" cy="32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b13f9a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b13f9a"/>
                </a:solidFill>
                <a:latin typeface="Chalkduster"/>
                <a:ea typeface="Chalkdust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50160" y="9326880"/>
            <a:ext cx="5201640" cy="324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890920" y="9324360"/>
            <a:ext cx="836280" cy="3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600" spc="-1" strike="noStrike">
                <a:solidFill>
                  <a:srgbClr val="b13f9a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8ED87B-707E-4B7D-ABD5-96BE153DFEA7}" type="slidenum">
              <a:rPr b="0" lang="en-GB" sz="1600" spc="-1" strike="noStrike">
                <a:solidFill>
                  <a:srgbClr val="b13f9a"/>
                </a:solidFill>
                <a:latin typeface="Chalkduster"/>
                <a:ea typeface="Chalkduster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 flipH="1">
            <a:off x="11595960" y="0"/>
            <a:ext cx="1408320" cy="975312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chemeClr val="lt1"/>
              </a:solidFill>
              <a:latin typeface="Trebuchet MS"/>
              <a:ea typeface="Chalkduster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960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ga-IE" sz="54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6038640" y="9326880"/>
            <a:ext cx="2847600" cy="32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b13f9a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b13f9a"/>
                </a:solidFill>
                <a:latin typeface="Chalkduster"/>
                <a:ea typeface="Chalkdust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650160" y="9326880"/>
            <a:ext cx="5201640" cy="324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8890920" y="9324360"/>
            <a:ext cx="836280" cy="3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600" spc="-1" strike="noStrike">
                <a:solidFill>
                  <a:srgbClr val="b13f9a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58B2A0-C288-43E4-8B9B-DAABAD81D9A0}" type="slidenum">
              <a:rPr b="0" lang="en-GB" sz="1600" spc="-1" strike="noStrike">
                <a:solidFill>
                  <a:srgbClr val="b13f9a"/>
                </a:solidFill>
                <a:latin typeface="Chalkduster"/>
                <a:ea typeface="Chalkduster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 flipH="1">
            <a:off x="11595960" y="0"/>
            <a:ext cx="1408320" cy="975312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chemeClr val="lt1"/>
              </a:solidFill>
              <a:latin typeface="Trebuchet MS"/>
              <a:ea typeface="Chalkduster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25080"/>
            <a:ext cx="8387640" cy="16686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ga-IE" sz="34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3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50160" y="2129760"/>
            <a:ext cx="8387640" cy="8564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6516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Trebuchet MS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650160" y="3034440"/>
            <a:ext cx="10295280" cy="6217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ga-IE" sz="4600" spc="-1" strike="noStrike">
                <a:solidFill>
                  <a:srgbClr val="000000"/>
                </a:solidFill>
                <a:latin typeface="Trebuchet MS"/>
              </a:rPr>
              <a:t>Click to edit Master text styles</a:t>
            </a:r>
            <a:endParaRPr b="0" lang="en-US" sz="46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325080">
              <a:lnSpc>
                <a:spcPct val="100000"/>
              </a:lnSpc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ga-IE" sz="4000" spc="-1" strike="noStrike">
                <a:solidFill>
                  <a:srgbClr val="6f6f6f"/>
                </a:solidFill>
                <a:latin typeface="Trebuchet MS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lvl="2" marL="107928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ga-IE" sz="3400" spc="-1" strike="noStrike">
                <a:solidFill>
                  <a:srgbClr val="000000"/>
                </a:solidFill>
                <a:latin typeface="Trebuchet MS"/>
              </a:rPr>
              <a:t>Third level</a:t>
            </a:r>
            <a:endParaRPr b="0" lang="en-US" sz="3400" spc="-1" strike="noStrike">
              <a:solidFill>
                <a:srgbClr val="6f6f6f"/>
              </a:solidFill>
              <a:latin typeface="Trebuchet MS"/>
            </a:endParaRPr>
          </a:p>
          <a:p>
            <a:pPr lvl="3" marL="1430280" indent="-325080">
              <a:lnSpc>
                <a:spcPct val="100000"/>
              </a:lnSpc>
              <a:spcBef>
                <a:spcPts val="561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ga-IE" sz="2800" spc="-1" strike="noStrike">
                <a:solidFill>
                  <a:srgbClr val="6f6f6f"/>
                </a:solidFill>
                <a:latin typeface="Trebuchet MS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052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ga-IE" sz="2800" spc="-1" strike="noStrike">
                <a:solidFill>
                  <a:srgbClr val="000000"/>
                </a:solidFill>
                <a:latin typeface="Trebuchet MS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dt" idx="13"/>
          </p:nvPr>
        </p:nvSpPr>
        <p:spPr>
          <a:xfrm>
            <a:off x="6038640" y="9326880"/>
            <a:ext cx="2847600" cy="32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b13f9a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b13f9a"/>
                </a:solidFill>
                <a:latin typeface="Chalkduster"/>
                <a:ea typeface="Chalkdust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650160" y="9326880"/>
            <a:ext cx="5201640" cy="324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8890920" y="9324360"/>
            <a:ext cx="836280" cy="3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600" spc="-1" strike="noStrike">
                <a:solidFill>
                  <a:srgbClr val="b13f9a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1AFF57-178F-45EC-93EA-609367CF7A1B}" type="slidenum">
              <a:rPr b="0" lang="en-GB" sz="1600" spc="-1" strike="noStrike">
                <a:solidFill>
                  <a:srgbClr val="b13f9a"/>
                </a:solidFill>
                <a:latin typeface="Chalkduster"/>
                <a:ea typeface="Chalkduster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68c7"/>
            </a:gs>
            <a:gs pos="100000">
              <a:srgbClr val="84136d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8" hidden="1"/>
          <p:cNvSpPr/>
          <p:nvPr/>
        </p:nvSpPr>
        <p:spPr>
          <a:xfrm flipH="1">
            <a:off x="11595960" y="0"/>
            <a:ext cx="1408320" cy="975312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chemeClr val="lt1"/>
              </a:solidFill>
              <a:latin typeface="Trebuchet MS"/>
              <a:ea typeface="Chalkduster"/>
            </a:endParaRPr>
          </a:p>
        </p:txBody>
      </p:sp>
      <p:sp>
        <p:nvSpPr>
          <p:cNvPr id="212" name="Rectangle 7"/>
          <p:cNvSpPr/>
          <p:nvPr/>
        </p:nvSpPr>
        <p:spPr>
          <a:xfrm rot="21240000">
            <a:off x="850320" y="1428840"/>
            <a:ext cx="6143040" cy="6132960"/>
          </a:xfrm>
          <a:prstGeom prst="rect">
            <a:avLst/>
          </a:prstGeom>
          <a:solidFill>
            <a:srgbClr val="fafafa"/>
          </a:solidFill>
          <a:ln cap="rnd" w="1270">
            <a:solidFill>
              <a:srgbClr val="eaeaea"/>
            </a:solidFill>
            <a:round/>
          </a:ln>
          <a:effectLst>
            <a:outerShdw algn="t" blurRad="24840" dir="5400000" dist="1260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chemeClr val="lt1"/>
              </a:solidFill>
              <a:latin typeface="Trebuchet MS"/>
              <a:ea typeface="Chalkduster"/>
            </a:endParaRPr>
          </a:p>
        </p:txBody>
      </p:sp>
      <p:sp>
        <p:nvSpPr>
          <p:cNvPr id="213" name="Rectangle 8"/>
          <p:cNvSpPr/>
          <p:nvPr/>
        </p:nvSpPr>
        <p:spPr>
          <a:xfrm rot="21420000">
            <a:off x="848520" y="1420200"/>
            <a:ext cx="6143040" cy="6132960"/>
          </a:xfrm>
          <a:prstGeom prst="rect">
            <a:avLst/>
          </a:prstGeom>
          <a:solidFill>
            <a:srgbClr val="fafafa"/>
          </a:solidFill>
          <a:ln cap="rnd" w="1270">
            <a:solidFill>
              <a:srgbClr val="eaeaea"/>
            </a:solidFill>
            <a:round/>
          </a:ln>
          <a:effectLst>
            <a:outerShdw algn="tl" blurRad="28080" dir="5400000" dist="1260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chemeClr val="lt1"/>
              </a:solidFill>
              <a:latin typeface="Trebuchet MS"/>
              <a:ea typeface="Chalkduster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4400" y="1625760"/>
            <a:ext cx="4876560" cy="2925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ga-IE" sz="43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4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64400" y="4669920"/>
            <a:ext cx="4876560" cy="27306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1700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ga-IE" sz="2000" spc="-1" strike="noStrike">
                <a:solidFill>
                  <a:srgbClr val="ffffff"/>
                </a:solidFill>
                <a:latin typeface="Trebuchet MS"/>
              </a:rPr>
              <a:t>Click to edit Master text styles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038640" y="9326880"/>
            <a:ext cx="2847600" cy="32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f4e7ed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f4e7ed"/>
                </a:solidFill>
                <a:latin typeface="Chalkduster"/>
                <a:ea typeface="Chalkdust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650160" y="9326880"/>
            <a:ext cx="5201640" cy="324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890920" y="9324360"/>
            <a:ext cx="836280" cy="3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600" spc="-1" strike="noStrike">
                <a:solidFill>
                  <a:srgbClr val="f4e7ed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1F1B2E-D1B5-4DC5-A6FF-C7F262266EC1}" type="slidenum">
              <a:rPr b="0" lang="en-GB" sz="1600" spc="-1" strike="noStrike">
                <a:solidFill>
                  <a:srgbClr val="f4e7ed"/>
                </a:solidFill>
                <a:latin typeface="Chalkduster"/>
                <a:ea typeface="Chalkduster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body"/>
          </p:nvPr>
        </p:nvSpPr>
        <p:spPr>
          <a:xfrm>
            <a:off x="943920" y="1480680"/>
            <a:ext cx="5981760" cy="5981760"/>
          </a:xfrm>
          <a:prstGeom prst="rect">
            <a:avLst/>
          </a:prstGeom>
          <a:solidFill>
            <a:srgbClr val="822e71"/>
          </a:solidFill>
          <a:ln w="108000">
            <a:solidFill>
              <a:srgbClr val="ffffff"/>
            </a:solidFill>
            <a:miter/>
          </a:ln>
          <a:effectLst>
            <a:outerShdw dist="3960" dir="5400000" blurRad="44280" rotWithShape="0">
              <a:srgbClr val="000000">
                <a:alpha val="6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ga-IE" sz="4600" spc="-1" strike="noStrike">
                <a:solidFill>
                  <a:srgbClr val="ffffff"/>
                </a:solidFill>
                <a:latin typeface="Chalkduster"/>
                <a:ea typeface="Chalkduster"/>
              </a:rPr>
              <a:t>Click icon to add picture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8"/>
          <p:cNvSpPr/>
          <p:nvPr/>
        </p:nvSpPr>
        <p:spPr>
          <a:xfrm flipH="1">
            <a:off x="11595960" y="0"/>
            <a:ext cx="1408320" cy="975312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chemeClr val="lt1"/>
              </a:solidFill>
              <a:latin typeface="Trebuchet MS"/>
              <a:ea typeface="Chalkduster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960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ga-IE" sz="54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50160" y="8344800"/>
            <a:ext cx="5006520" cy="649800"/>
          </a:xfrm>
          <a:prstGeom prst="rect">
            <a:avLst/>
          </a:prstGeom>
          <a:noFill/>
          <a:ln w="12600">
            <a:solidFill>
              <a:srgbClr val="b13f9a"/>
            </a:solidFill>
            <a:round/>
          </a:ln>
          <a:effectLst>
            <a:outerShdw dist="25560" dir="5400000" blurRad="38880" rotWithShape="0">
              <a:srgbClr val="ffffff">
                <a:alpha val="83000"/>
              </a:srgbClr>
            </a:outerShdw>
          </a:effectLst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1" lang="ga-IE" sz="2600" spc="-1" strike="noStrike">
                <a:solidFill>
                  <a:srgbClr val="b13f9a"/>
                </a:solidFill>
                <a:latin typeface="Trebuchet MS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body"/>
          </p:nvPr>
        </p:nvSpPr>
        <p:spPr>
          <a:xfrm>
            <a:off x="5943240" y="8344800"/>
            <a:ext cx="5006520" cy="649800"/>
          </a:xfrm>
          <a:prstGeom prst="rect">
            <a:avLst/>
          </a:prstGeom>
          <a:noFill/>
          <a:ln w="12600">
            <a:solidFill>
              <a:srgbClr val="b13f9a"/>
            </a:solidFill>
            <a:round/>
          </a:ln>
          <a:effectLst>
            <a:outerShdw dist="25560" dir="5400000" blurRad="38880" rotWithShape="0">
              <a:srgbClr val="ffffff">
                <a:alpha val="83000"/>
              </a:srgbClr>
            </a:outerShdw>
          </a:effectLst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1" lang="ga-IE" sz="2600" spc="-1" strike="noStrike">
                <a:solidFill>
                  <a:srgbClr val="b13f9a"/>
                </a:solidFill>
                <a:latin typeface="Trebuchet MS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50160" y="2434680"/>
            <a:ext cx="5006520" cy="585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ga-IE" sz="3400" spc="-1" strike="noStrike">
                <a:solidFill>
                  <a:srgbClr val="000000"/>
                </a:solidFill>
                <a:latin typeface="Trebuchet MS"/>
              </a:rPr>
              <a:t>Click to edit Master text style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325080">
              <a:lnSpc>
                <a:spcPct val="100000"/>
              </a:lnSpc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ga-IE" sz="2800" spc="-1" strike="noStrike">
                <a:solidFill>
                  <a:srgbClr val="6f6f6f"/>
                </a:solidFill>
                <a:latin typeface="Trebuchet MS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7928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ga-IE" sz="2600" spc="-1" strike="noStrike">
                <a:solidFill>
                  <a:srgbClr val="000000"/>
                </a:solidFill>
                <a:latin typeface="Trebuchet MS"/>
              </a:rPr>
              <a:t>Third level</a:t>
            </a:r>
            <a:endParaRPr b="0" lang="en-US" sz="2600" spc="-1" strike="noStrike">
              <a:solidFill>
                <a:srgbClr val="6f6f6f"/>
              </a:solidFill>
              <a:latin typeface="Trebuchet MS"/>
            </a:endParaRPr>
          </a:p>
          <a:p>
            <a:pPr lvl="3" marL="1430280" indent="-325080">
              <a:lnSpc>
                <a:spcPct val="100000"/>
              </a:lnSpc>
              <a:spcBef>
                <a:spcPts val="459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ga-IE" sz="2300" spc="-1" strike="noStrike">
                <a:solidFill>
                  <a:srgbClr val="6f6f6f"/>
                </a:solidFill>
                <a:latin typeface="Trebuchet MS"/>
              </a:rPr>
              <a:t>Fourth level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4" marL="182052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ga-IE" sz="2300" spc="-1" strike="noStrike">
                <a:solidFill>
                  <a:srgbClr val="000000"/>
                </a:solidFill>
                <a:latin typeface="Trebuchet MS"/>
              </a:rPr>
              <a:t>Fifth level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body"/>
          </p:nvPr>
        </p:nvSpPr>
        <p:spPr>
          <a:xfrm>
            <a:off x="5943240" y="2434680"/>
            <a:ext cx="5006520" cy="5851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ga-IE" sz="3400" spc="-1" strike="noStrike">
                <a:solidFill>
                  <a:srgbClr val="000000"/>
                </a:solidFill>
                <a:latin typeface="Trebuchet MS"/>
              </a:rPr>
              <a:t>Click to edit Master text styles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  <a:p>
            <a:pPr lvl="1" marL="741240" indent="-325080">
              <a:lnSpc>
                <a:spcPct val="100000"/>
              </a:lnSpc>
              <a:spcBef>
                <a:spcPts val="711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ga-IE" sz="2800" spc="-1" strike="noStrike">
                <a:solidFill>
                  <a:srgbClr val="6f6f6f"/>
                </a:solidFill>
                <a:latin typeface="Trebuchet MS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07928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ga-IE" sz="2600" spc="-1" strike="noStrike">
                <a:solidFill>
                  <a:srgbClr val="000000"/>
                </a:solidFill>
                <a:latin typeface="Trebuchet MS"/>
              </a:rPr>
              <a:t>Third level</a:t>
            </a:r>
            <a:endParaRPr b="0" lang="en-US" sz="2600" spc="-1" strike="noStrike">
              <a:solidFill>
                <a:srgbClr val="6f6f6f"/>
              </a:solidFill>
              <a:latin typeface="Trebuchet MS"/>
            </a:endParaRPr>
          </a:p>
          <a:p>
            <a:pPr lvl="3" marL="1430280" indent="-325080">
              <a:lnSpc>
                <a:spcPct val="100000"/>
              </a:lnSpc>
              <a:spcBef>
                <a:spcPts val="459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ga-IE" sz="2300" spc="-1" strike="noStrike">
                <a:solidFill>
                  <a:srgbClr val="6f6f6f"/>
                </a:solidFill>
                <a:latin typeface="Trebuchet MS"/>
              </a:rPr>
              <a:t>Fourth level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4" marL="1820520" indent="-325080">
              <a:lnSpc>
                <a:spcPct val="100000"/>
              </a:lnSpc>
              <a:spcBef>
                <a:spcPts val="57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ga-IE" sz="2300" spc="-1" strike="noStrike">
                <a:solidFill>
                  <a:srgbClr val="000000"/>
                </a:solidFill>
                <a:latin typeface="Trebuchet MS"/>
              </a:rPr>
              <a:t>Fifth level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dt" idx="19"/>
          </p:nvPr>
        </p:nvSpPr>
        <p:spPr>
          <a:xfrm>
            <a:off x="6038640" y="9326880"/>
            <a:ext cx="2847600" cy="32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b13f9a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b13f9a"/>
                </a:solidFill>
                <a:latin typeface="Chalkduster"/>
                <a:ea typeface="Chalkdust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 type="ftr" idx="20"/>
          </p:nvPr>
        </p:nvSpPr>
        <p:spPr>
          <a:xfrm>
            <a:off x="650160" y="9326880"/>
            <a:ext cx="5201640" cy="324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8"/>
          <p:cNvSpPr>
            <a:spLocks noGrp="1"/>
          </p:cNvSpPr>
          <p:nvPr>
            <p:ph type="sldNum" idx="21"/>
          </p:nvPr>
        </p:nvSpPr>
        <p:spPr>
          <a:xfrm>
            <a:off x="8890920" y="9324360"/>
            <a:ext cx="836280" cy="3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600" spc="-1" strike="noStrike">
                <a:solidFill>
                  <a:srgbClr val="b13f9a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A46B29-FFAC-4B9A-A940-C168E9A4B270}" type="slidenum">
              <a:rPr b="0" lang="en-GB" sz="1600" spc="-1" strike="noStrike">
                <a:solidFill>
                  <a:srgbClr val="b13f9a"/>
                </a:solidFill>
                <a:latin typeface="Chalkduster"/>
                <a:ea typeface="Chalkduster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 hidden="1"/>
          <p:cNvSpPr/>
          <p:nvPr/>
        </p:nvSpPr>
        <p:spPr>
          <a:xfrm flipH="1">
            <a:off x="11595960" y="0"/>
            <a:ext cx="1408320" cy="975312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chemeClr val="lt1"/>
              </a:solidFill>
              <a:latin typeface="Trebuchet MS"/>
              <a:ea typeface="Chalkduster"/>
            </a:endParaRPr>
          </a:p>
        </p:txBody>
      </p:sp>
      <p:sp>
        <p:nvSpPr>
          <p:cNvPr id="302" name="Rectangle 7"/>
          <p:cNvSpPr/>
          <p:nvPr/>
        </p:nvSpPr>
        <p:spPr>
          <a:xfrm flipH="1">
            <a:off x="3792240" y="0"/>
            <a:ext cx="9211320" cy="975312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4300" spc="-1" strike="noStrike">
              <a:solidFill>
                <a:schemeClr val="lt1"/>
              </a:solidFill>
              <a:latin typeface="Trebuchet MS"/>
              <a:ea typeface="Chalkduster"/>
            </a:endParaRPr>
          </a:p>
        </p:txBody>
      </p:sp>
      <p:sp>
        <p:nvSpPr>
          <p:cNvPr id="303" name="Straight Connector 8"/>
          <p:cNvSpPr/>
          <p:nvPr/>
        </p:nvSpPr>
        <p:spPr>
          <a:xfrm flipV="1">
            <a:off x="3792960" y="0"/>
            <a:ext cx="360" cy="975348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9960" rIns="129960" tIns="0" bIns="0" anchor="t" anchorCtr="1">
            <a:noAutofit/>
          </a:bodyPr>
          <a:p>
            <a:endParaRPr b="0" lang="en-US" sz="4300" spc="-1" strike="noStrike">
              <a:solidFill>
                <a:srgbClr val="ffffff"/>
              </a:solidFill>
              <a:latin typeface="Chalkduster"/>
              <a:ea typeface="Chalkduster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ga-IE" sz="6000" spc="-1" strike="noStrike" cap="all">
                <a:solidFill>
                  <a:srgbClr val="000000"/>
                </a:solidFill>
                <a:latin typeface="Trebuchet MS"/>
              </a:rPr>
              <a:t>Click to edit Master title style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8350200" y="9326880"/>
            <a:ext cx="2847600" cy="32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GB" sz="1400" spc="-1" strike="noStrike">
                <a:solidFill>
                  <a:srgbClr val="ffffff"/>
                </a:solidFill>
                <a:latin typeface="Chalkduster"/>
                <a:ea typeface="Chalkduster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400" spc="-1" strike="noStrike">
                <a:solidFill>
                  <a:srgbClr val="ffffff"/>
                </a:solidFill>
                <a:latin typeface="Chalkduster"/>
                <a:ea typeface="Chalkduster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23"/>
          </p:nvPr>
        </p:nvSpPr>
        <p:spPr>
          <a:xfrm>
            <a:off x="4009680" y="9326880"/>
            <a:ext cx="4163400" cy="324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4"/>
          </p:nvPr>
        </p:nvSpPr>
        <p:spPr>
          <a:xfrm>
            <a:off x="11208240" y="9324360"/>
            <a:ext cx="836280" cy="3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600" spc="-1" strike="noStrike">
                <a:solidFill>
                  <a:srgbClr val="ffffff"/>
                </a:solidFill>
                <a:latin typeface="Chalkduster"/>
                <a:ea typeface="Chalkduster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355D39-7852-40FA-B784-655E4A533B31}" type="slidenum">
              <a:rPr b="0" lang="en-GB" sz="1600" spc="-1" strike="noStrike">
                <a:solidFill>
                  <a:srgbClr val="ffffff"/>
                </a:solidFill>
                <a:latin typeface="Chalkduster"/>
                <a:ea typeface="Chalkduster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4267080"/>
            <a:ext cx="11048760" cy="136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5160" rIns="65160" t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en-US" sz="6000" spc="-1" strike="noStrike" cap="all">
                <a:solidFill>
                  <a:srgbClr val="000000"/>
                </a:solidFill>
                <a:latin typeface="Arial"/>
              </a:rPr>
              <a:t>Reflections on Practice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346" name="Picture 4" descr="tile_blackboard_green"/>
          <p:cNvPicPr/>
          <p:nvPr/>
        </p:nvPicPr>
        <p:blipFill>
          <a:blip r:embed="rId1"/>
          <a:stretch/>
        </p:blipFill>
        <p:spPr>
          <a:xfrm>
            <a:off x="5130720" y="2057400"/>
            <a:ext cx="2555640" cy="1694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tile_blackboard_green"/>
          <p:cNvPicPr/>
          <p:nvPr/>
        </p:nvPicPr>
        <p:blipFill>
          <a:blip r:embed="rId2"/>
          <a:stretch/>
        </p:blipFill>
        <p:spPr>
          <a:xfrm>
            <a:off x="1294920" y="8337600"/>
            <a:ext cx="10467720" cy="12474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3"/>
          <p:cNvSpPr/>
          <p:nvPr/>
        </p:nvSpPr>
        <p:spPr>
          <a:xfrm>
            <a:off x="-84600" y="196560"/>
            <a:ext cx="11539800" cy="335268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IE" sz="10700" spc="-1" strike="noStrike">
                <a:solidFill>
                  <a:srgbClr val="b13f9a"/>
                </a:solidFill>
                <a:latin typeface="Baskerville SemiBold Italic"/>
                <a:ea typeface="Chalkduster"/>
              </a:rPr>
              <a:t>Maths Counts 2016</a:t>
            </a:r>
            <a:endParaRPr b="0" lang="en-US" sz="10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This Research Lesson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Can students minimise the amount of information required to draw congruent triangles?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Can they arrive at the conditions: SSS, SAS &amp; ASA?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Can students draw conclusions about AAA and SSA conditions?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Design of Lesson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 rot="16200000">
            <a:off x="3975840" y="678240"/>
            <a:ext cx="5202000" cy="10053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 vert="eaVert">
            <a:normAutofit/>
          </a:bodyPr>
          <a:p>
            <a:pPr marL="39024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rebuchet MS"/>
              </a:rPr>
              <a:t>To prepare for this lesson we had to: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rebuchet MS"/>
              </a:rPr>
              <a:t>become problem solve ourselve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rebuchet MS"/>
              </a:rPr>
              <a:t>see the problem through the eyes of the student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IE" sz="3600" spc="-1" strike="noStrike">
                <a:solidFill>
                  <a:srgbClr val="000000"/>
                </a:solidFill>
                <a:latin typeface="Trebuchet MS"/>
              </a:rPr>
              <a:t>anticipate the students’ responses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rebuchet MS"/>
              </a:rPr>
              <a:t>carefully word the initial problem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Table 2"/>
          <p:cNvGraphicFramePr/>
          <p:nvPr/>
        </p:nvGraphicFramePr>
        <p:xfrm>
          <a:off x="0" y="1676520"/>
          <a:ext cx="13004280" cy="8076960"/>
        </p:xfrm>
        <a:graphic>
          <a:graphicData uri="http://schemas.openxmlformats.org/drawingml/2006/table">
            <a:tbl>
              <a:tblPr/>
              <a:tblGrid>
                <a:gridCol w="2997000"/>
                <a:gridCol w="10007280"/>
              </a:tblGrid>
              <a:tr h="104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IE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25200">
                      <a:solidFill>
                        <a:srgbClr val="f9b63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IE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s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25200">
                      <a:solidFill>
                        <a:srgbClr val="f9b639"/>
                      </a:solidFill>
                    </a:lnB>
                    <a:noFill/>
                  </a:tcPr>
                </a:tc>
              </a:tr>
              <a:tr h="4803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IE" sz="33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IE" sz="33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 minutes 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eck prior Knowl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at do we mean when we say that two geomet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igures are congru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ecking for same size and same sha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hat is the same in these 2 congruent traingle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hecking for all three corresponding sides and 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ree corresponding angles are the same eq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solidFill>
                      <a:schemeClr val="accent4"/>
                    </a:solidFill>
                  </a:tcPr>
                </a:tc>
              </a:tr>
              <a:tr h="223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IE" sz="33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 minutes 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ose the Problem: What is the least amount 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nformation we need to know to make sure that 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wo triangles are  congruen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9600" cy="9162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Design of Research Lesson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9600" cy="10684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Design of Research Lesson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graphicFrame>
        <p:nvGraphicFramePr>
          <p:cNvPr id="375" name="Table 2"/>
          <p:cNvGraphicFramePr/>
          <p:nvPr/>
        </p:nvGraphicFramePr>
        <p:xfrm>
          <a:off x="330120" y="1963080"/>
          <a:ext cx="10820160" cy="8134200"/>
        </p:xfrm>
        <a:graphic>
          <a:graphicData uri="http://schemas.openxmlformats.org/drawingml/2006/table">
            <a:tbl>
              <a:tblPr/>
              <a:tblGrid>
                <a:gridCol w="2493720"/>
                <a:gridCol w="8326440"/>
              </a:tblGrid>
              <a:tr h="75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IE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25200">
                      <a:solidFill>
                        <a:srgbClr val="f9b63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IE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s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25200">
                      <a:solidFill>
                        <a:srgbClr val="f9b639"/>
                      </a:solidFill>
                    </a:lnB>
                    <a:noFill/>
                  </a:tcPr>
                </a:tc>
              </a:tr>
              <a:tr h="215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IE" sz="33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IE" sz="33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 minutes 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udents work individually on 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irculate the room to assess students’ wo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 plan how to ochestrat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solidFill>
                      <a:schemeClr val="accent4"/>
                    </a:solidFill>
                  </a:tcPr>
                </a:tc>
              </a:tr>
              <a:tr h="223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IE" sz="33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  minutes 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lass discussion: Students are brought to t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oard to explain their solutions from the m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 the least comm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noFill/>
                  </a:tcPr>
                </a:tc>
              </a:tr>
              <a:tr h="223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IE" sz="33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 minutes</a:t>
                      </a: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solidFill>
                      <a:schemeClr val="accent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IE" sz="2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tudents write refl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9b639"/>
                      </a:solidFill>
                    </a:lnL>
                    <a:lnR w="12240">
                      <a:solidFill>
                        <a:srgbClr val="f9b639"/>
                      </a:solidFill>
                    </a:lnR>
                    <a:lnT w="12240">
                      <a:solidFill>
                        <a:srgbClr val="f9b639"/>
                      </a:solidFill>
                    </a:lnT>
                    <a:lnB w="12240">
                      <a:solidFill>
                        <a:srgbClr val="f9b639"/>
                      </a:solidFill>
                    </a:lnB>
                    <a:solidFill>
                      <a:schemeClr val="accent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35040" y="380880"/>
            <a:ext cx="8387640" cy="9698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400" spc="-1" strike="noStrike" cap="all">
                <a:solidFill>
                  <a:srgbClr val="000000"/>
                </a:solidFill>
                <a:latin typeface="Trebuchet MS"/>
              </a:rPr>
              <a:t>Posing the task</a:t>
            </a:r>
            <a:endParaRPr b="0" lang="en-US" sz="3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635040" y="1523880"/>
            <a:ext cx="9905760" cy="2437920"/>
          </a:xfrm>
          <a:prstGeom prst="rect">
            <a:avLst/>
          </a:prstGeom>
          <a:solidFill>
            <a:srgbClr val="fde9d9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tIns="91440" bIns="9144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Chalkduster"/>
                <a:ea typeface="Chalkduster"/>
              </a:rPr>
              <a:t>What is the least amount of information we need to know to make sure that two triangles are congru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"/>
          <p:cNvSpPr/>
          <p:nvPr/>
        </p:nvSpPr>
        <p:spPr>
          <a:xfrm>
            <a:off x="787320" y="4572000"/>
            <a:ext cx="96008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halkduster"/>
                <a:ea typeface="Chalkduster"/>
              </a:rPr>
              <a:t>Worksheet Given a triangle AB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halkduster"/>
                <a:ea typeface="Chalkduster"/>
              </a:rPr>
              <a:t>Clarifying the task: You will all start by drawing a line segment that has the same length as the side AB. Then you will think about how many sides and angles you need to know in order to draw a triangle congruent to triangle ABC. You have ten minutes to work on this problem. Use your rulers, compasses and protr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halkduster"/>
                <a:ea typeface="Chalkduster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7664400" y="1143000"/>
            <a:ext cx="4876560" cy="6257880"/>
          </a:xfrm>
          <a:prstGeom prst="rect">
            <a:avLst/>
          </a:prstGeom>
          <a:noFill/>
          <a:ln w="0">
            <a:noFill/>
          </a:ln>
        </p:spPr>
        <p:txBody>
          <a:bodyPr numCol="1" spcCol="0" lIns="117000" rIns="0" tIns="0" bIns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1549440" y="1828800"/>
            <a:ext cx="426672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000000"/>
                </a:solidFill>
                <a:latin typeface="Chalkduster"/>
                <a:ea typeface="Chalkduster"/>
              </a:rPr>
              <a:t>Workshee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1" name="Straight Connector 14"/>
          <p:cNvCxnSpPr/>
          <p:nvPr/>
        </p:nvCxnSpPr>
        <p:spPr>
          <a:xfrm flipH="1">
            <a:off x="2006280" y="3124080"/>
            <a:ext cx="1143360" cy="2743560"/>
          </a:xfrm>
          <a:prstGeom prst="straightConnector1">
            <a:avLst/>
          </a:prstGeom>
          <a:ln>
            <a:solidFill>
              <a:srgbClr val="b83d68"/>
            </a:solidFill>
            <a:round/>
          </a:ln>
        </p:spPr>
      </p:cxnSp>
      <p:cxnSp>
        <p:nvCxnSpPr>
          <p:cNvPr id="382" name="Straight Connector 15"/>
          <p:cNvCxnSpPr/>
          <p:nvPr/>
        </p:nvCxnSpPr>
        <p:spPr>
          <a:xfrm flipH="1">
            <a:off x="2006280" y="5638680"/>
            <a:ext cx="3505680" cy="228960"/>
          </a:xfrm>
          <a:prstGeom prst="straightConnector1">
            <a:avLst/>
          </a:prstGeom>
          <a:ln>
            <a:solidFill>
              <a:srgbClr val="b83d68"/>
            </a:solidFill>
            <a:round/>
          </a:ln>
        </p:spPr>
      </p:cxnSp>
      <p:cxnSp>
        <p:nvCxnSpPr>
          <p:cNvPr id="383" name="Straight Connector 19"/>
          <p:cNvCxnSpPr/>
          <p:nvPr/>
        </p:nvCxnSpPr>
        <p:spPr>
          <a:xfrm flipH="1" flipV="1">
            <a:off x="3149280" y="3124080"/>
            <a:ext cx="2362680" cy="2591280"/>
          </a:xfrm>
          <a:prstGeom prst="straightConnector1">
            <a:avLst/>
          </a:prstGeom>
          <a:ln>
            <a:solidFill>
              <a:srgbClr val="b83d68"/>
            </a:solidFill>
            <a:round/>
          </a:ln>
        </p:spPr>
      </p:cxnSp>
      <p:sp>
        <p:nvSpPr>
          <p:cNvPr id="384" name="TextBox 28"/>
          <p:cNvSpPr/>
          <p:nvPr/>
        </p:nvSpPr>
        <p:spPr>
          <a:xfrm>
            <a:off x="8968320" y="6400800"/>
            <a:ext cx="256464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000000"/>
                </a:solidFill>
                <a:latin typeface="Chalkduster"/>
                <a:ea typeface="Chalkduster"/>
              </a:rPr>
              <a:t>|AB| =11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30"/>
          <p:cNvSpPr/>
          <p:nvPr/>
        </p:nvSpPr>
        <p:spPr>
          <a:xfrm>
            <a:off x="2669040" y="2438280"/>
            <a:ext cx="52560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000000"/>
                </a:solidFill>
                <a:latin typeface="Chalkduster"/>
                <a:ea typeface="Chalkduster"/>
              </a:rPr>
              <a:t>C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1"/>
          <p:cNvSpPr/>
          <p:nvPr/>
        </p:nvSpPr>
        <p:spPr>
          <a:xfrm>
            <a:off x="1656720" y="6172200"/>
            <a:ext cx="52992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000000"/>
                </a:solidFill>
                <a:latin typeface="Chalkduster"/>
                <a:ea typeface="Chalkduster"/>
              </a:rPr>
              <a:t>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32"/>
          <p:cNvSpPr/>
          <p:nvPr/>
        </p:nvSpPr>
        <p:spPr>
          <a:xfrm>
            <a:off x="5519880" y="5867280"/>
            <a:ext cx="53604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300" spc="-1" strike="noStrike">
                <a:solidFill>
                  <a:srgbClr val="000000"/>
                </a:solidFill>
                <a:latin typeface="Chalkduster"/>
                <a:ea typeface="Chalkduster"/>
              </a:rPr>
              <a:t>B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Straight Connector 34"/>
          <p:cNvCxnSpPr/>
          <p:nvPr/>
        </p:nvCxnSpPr>
        <p:spPr>
          <a:xfrm>
            <a:off x="8254800" y="5638680"/>
            <a:ext cx="3734280" cy="766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960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Anticipated Students’ Responses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8344800"/>
            <a:ext cx="5006520" cy="649800"/>
          </a:xfrm>
          <a:prstGeom prst="rect">
            <a:avLst/>
          </a:prstGeom>
          <a:noFill/>
          <a:ln w="12600">
            <a:solidFill>
              <a:srgbClr val="b13f9a"/>
            </a:solidFill>
            <a:round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Student 1: S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943240" y="8344800"/>
            <a:ext cx="5006520" cy="649800"/>
          </a:xfrm>
          <a:prstGeom prst="rect">
            <a:avLst/>
          </a:prstGeom>
          <a:noFill/>
          <a:ln w="12600">
            <a:solidFill>
              <a:srgbClr val="b13f9a"/>
            </a:solidFill>
            <a:round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Student 2: A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2" name="Content Placeholder 9" descr="SSS.PNG"/>
          <p:cNvPicPr/>
          <p:nvPr/>
        </p:nvPicPr>
        <p:blipFill>
          <a:blip r:embed="rId1"/>
          <a:srcRect l="0" t="-18587" r="0" b="-18587"/>
          <a:stretch/>
        </p:blipFill>
        <p:spPr>
          <a:xfrm>
            <a:off x="650160" y="2434680"/>
            <a:ext cx="5006520" cy="5851800"/>
          </a:xfrm>
          <a:prstGeom prst="rect">
            <a:avLst/>
          </a:prstGeom>
          <a:ln w="0">
            <a:noFill/>
          </a:ln>
        </p:spPr>
      </p:pic>
      <p:pic>
        <p:nvPicPr>
          <p:cNvPr id="393" name="Content Placeholder 10" descr="ASA.PNG"/>
          <p:cNvPicPr/>
          <p:nvPr/>
        </p:nvPicPr>
        <p:blipFill>
          <a:blip r:embed="rId2"/>
          <a:srcRect l="0" t="-9202" r="0" b="-9202"/>
          <a:stretch/>
        </p:blipFill>
        <p:spPr>
          <a:xfrm>
            <a:off x="5943240" y="2434680"/>
            <a:ext cx="500652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960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Anticipated Students’ Responses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8344800"/>
            <a:ext cx="5006520" cy="649800"/>
          </a:xfrm>
          <a:prstGeom prst="rect">
            <a:avLst/>
          </a:prstGeom>
          <a:noFill/>
          <a:ln w="12600">
            <a:solidFill>
              <a:srgbClr val="b13f9a"/>
            </a:solidFill>
            <a:round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Student 3: S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943240" y="8344800"/>
            <a:ext cx="5006520" cy="649800"/>
          </a:xfrm>
          <a:prstGeom prst="rect">
            <a:avLst/>
          </a:prstGeom>
          <a:noFill/>
          <a:ln w="12600">
            <a:solidFill>
              <a:srgbClr val="b13f9a"/>
            </a:solidFill>
            <a:round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b13f9a"/>
                </a:solidFill>
                <a:latin typeface="Trebuchet MS"/>
              </a:rPr>
              <a:t>Student 4: SA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7" name="Content Placeholder 9" descr="SAS.PNG"/>
          <p:cNvPicPr/>
          <p:nvPr/>
        </p:nvPicPr>
        <p:blipFill>
          <a:blip r:embed="rId1"/>
          <a:srcRect l="0" t="-5986" r="0" b="-5986"/>
          <a:stretch/>
        </p:blipFill>
        <p:spPr>
          <a:xfrm>
            <a:off x="650160" y="2434680"/>
            <a:ext cx="5006520" cy="5851800"/>
          </a:xfrm>
          <a:prstGeom prst="rect">
            <a:avLst/>
          </a:prstGeom>
          <a:ln w="0">
            <a:noFill/>
          </a:ln>
        </p:spPr>
      </p:pic>
      <p:pic>
        <p:nvPicPr>
          <p:cNvPr id="398" name="Content Placeholder 10" descr="SAS.PNG"/>
          <p:cNvPicPr/>
          <p:nvPr/>
        </p:nvPicPr>
        <p:blipFill>
          <a:blip r:embed="rId2"/>
          <a:srcRect l="0" t="-5986" r="0" b="-5986"/>
          <a:stretch/>
        </p:blipFill>
        <p:spPr>
          <a:xfrm>
            <a:off x="5943240" y="2434680"/>
            <a:ext cx="500652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n-IE" sz="7300" spc="-1" strike="noStrike" cap="all">
                <a:solidFill>
                  <a:srgbClr val="000000"/>
                </a:solidFill>
                <a:latin typeface="Trebuchet MS"/>
              </a:rPr>
              <a:t>Classroom Observation</a:t>
            </a:r>
            <a:endParaRPr b="0" lang="en-US" sz="7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35040" y="2819520"/>
            <a:ext cx="10134360" cy="35809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477360" indent="-47736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A seating plan provided by the teacher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477360" indent="-47736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•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Three observers, 8 students per observer, one observer uses the app LessonNote, the other two pen and paper using the Lesson Plan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47736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839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Classroom Observation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graphicFrame>
        <p:nvGraphicFramePr>
          <p:cNvPr id="402" name="Content Placeholder 3"/>
          <p:cNvGraphicFramePr/>
          <p:nvPr/>
        </p:nvGraphicFramePr>
        <p:xfrm>
          <a:off x="0" y="1523880"/>
          <a:ext cx="13004280" cy="9014760"/>
        </p:xfrm>
        <a:graphic>
          <a:graphicData uri="http://schemas.openxmlformats.org/drawingml/2006/table">
            <a:tbl>
              <a:tblPr/>
              <a:tblGrid>
                <a:gridCol w="6502320"/>
                <a:gridCol w="6502320"/>
              </a:tblGrid>
              <a:tr h="173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Introduction, posing the tas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Can students recall the characteristics of congruent shape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Was wording of the task clear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Trebuchet MS"/>
                        </a:rPr>
                        <a:t>Questions asked by stud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049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Individual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Can students draw congruent triangles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Are prompts required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What strategies do they employ when drawing congruent triangles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Are they able to determine the minimum information needed? How long do students spend on the task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What kind of questions do students ask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Do they persist with the task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  <a:tr h="206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Discu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Are students attentive to what is happening on the board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Are clarifications needed to presenters’ board work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2400" spc="-1" strike="noStrike">
                          <a:solidFill>
                            <a:schemeClr val="dk1"/>
                          </a:solidFill>
                          <a:latin typeface="Trebuchet MS"/>
                        </a:rPr>
                        <a:t>Did the discussion promote student lear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35040" y="1066680"/>
            <a:ext cx="10295280" cy="238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IE" sz="8000" spc="-1" strike="noStrike" cap="all">
                <a:solidFill>
                  <a:srgbClr val="000000"/>
                </a:solidFill>
                <a:latin typeface="Trebuchet MS"/>
              </a:rPr>
              <a:t>Congruent Triangles</a:t>
            </a:r>
            <a:endParaRPr b="0" lang="en-US" sz="8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58720" y="3034440"/>
            <a:ext cx="12039120" cy="56779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73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IE" sz="7300" spc="-1" strike="noStrike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IE" sz="73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IE" sz="7300" spc="-1" strike="noStrike">
                <a:solidFill>
                  <a:srgbClr val="000000"/>
                </a:solidFill>
                <a:latin typeface="Trebuchet MS"/>
              </a:rPr>
              <a:t> Year Class</a:t>
            </a:r>
            <a:r>
              <a:rPr b="0" lang="en-IE" sz="7300" spc="-1" strike="noStrike">
                <a:solidFill>
                  <a:srgbClr val="ff0000"/>
                </a:solidFill>
                <a:latin typeface="Trebuchet MS"/>
              </a:rPr>
              <a:t>	</a:t>
            </a:r>
            <a:endParaRPr b="0" lang="en-US" sz="73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73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1" lang="en-IE" sz="7300" spc="-1" strike="noStrike" cap="all">
                <a:solidFill>
                  <a:srgbClr val="000000"/>
                </a:solidFill>
                <a:latin typeface="Trebuchet MS"/>
              </a:rPr>
              <a:t>Findings: Major Patterns &amp; Tendencies</a:t>
            </a:r>
            <a:endParaRPr b="0" lang="en-US" sz="7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12267720" cy="56779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487440" indent="-4874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IE" sz="3700" spc="-1" strike="noStrike">
                <a:solidFill>
                  <a:srgbClr val="000000"/>
                </a:solidFill>
                <a:latin typeface="Trebuchet MS"/>
              </a:rPr>
              <a:t>Initial question must be very clear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487440" indent="-4874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IE" sz="3700" spc="-1" strike="noStrike">
                <a:solidFill>
                  <a:srgbClr val="000000"/>
                </a:solidFill>
                <a:latin typeface="Trebuchet MS"/>
              </a:rPr>
              <a:t>Tended to come up with ASA firs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487440" indent="-4874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IE" sz="3700" spc="-1" strike="noStrike">
                <a:solidFill>
                  <a:srgbClr val="000000"/>
                </a:solidFill>
                <a:latin typeface="Trebuchet MS"/>
              </a:rPr>
              <a:t>After initial success became more confident: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487440" indent="-4874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IE" sz="3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IE" sz="3700" spc="-1" strike="noStrike">
                <a:solidFill>
                  <a:srgbClr val="000000"/>
                </a:solidFill>
                <a:latin typeface="Trebuchet MS"/>
              </a:rPr>
              <a:t>SSS and SAS followed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487440" indent="-4874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IE" sz="3700" spc="-1" strike="noStrike">
                <a:solidFill>
                  <a:srgbClr val="000000"/>
                </a:solidFill>
                <a:latin typeface="Trebuchet MS"/>
              </a:rPr>
              <a:t>Many students started with measuring angles and lengths even though they were not given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rmAutofit fontScale="63000"/>
          </a:bodyPr>
          <a:p>
            <a:pPr indent="0" algn="ctr">
              <a:lnSpc>
                <a:spcPct val="100000"/>
              </a:lnSpc>
              <a:buNone/>
            </a:pPr>
            <a:r>
              <a:rPr b="1" lang="en-IE" sz="7300" spc="-1" strike="noStrike" cap="all">
                <a:solidFill>
                  <a:srgbClr val="000000"/>
                </a:solidFill>
                <a:latin typeface="Trebuchet MS"/>
              </a:rPr>
              <a:t>Findings: Examples of Students’ learning &amp; Thinking</a:t>
            </a:r>
            <a:endParaRPr b="0" lang="en-US" sz="7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12267720" cy="59432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Cautious at the start but as they understood how to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8880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fix the third vertex became more comfortable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Asked:” Do we count the bottom line”?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From the outset ¼ of class very clear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After first student peer taught ASA at the board,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reinforced by the teacher, all students became very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 clear and began to see other 2 condition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8880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en-IE" sz="5400" spc="-1" strike="noStrike" cap="all">
                <a:solidFill>
                  <a:srgbClr val="000000"/>
                </a:solidFill>
                <a:latin typeface="Trebuchet MS"/>
              </a:rPr>
              <a:t>Findings: Examples of Students’ learning &amp; Thinking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39024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After all three conditions were presented by students some began to wonder if: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AAA would imply congruence-misconception ruled out by other student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One student asked is it possible to do a triangle with 2 bits of information? – ruled out by class and many explanations given by students as to why this would not be possible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Students achieve the goal of the lesson?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All students drew at least one condition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Half of the students arrived at all 3 condition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Students could articulate their reasoning at the board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Main concepts were reinforced and summarised throughout by the teacher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Pre-pared posters assisted the flow of the lesson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Final Board Plan contributed to summarising the whole lesson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Interesting point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Five minutes into the class 2 students drew a congruent triangle using SSA which lead to two scenarios: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3" name="Picture 3" descr="Student2.PNG"/>
          <p:cNvPicPr/>
          <p:nvPr/>
        </p:nvPicPr>
        <p:blipFill>
          <a:blip r:embed="rId1"/>
          <a:stretch/>
        </p:blipFill>
        <p:spPr>
          <a:xfrm>
            <a:off x="1015920" y="4269600"/>
            <a:ext cx="10134360" cy="235944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pic>
        <p:nvPicPr>
          <p:cNvPr id="414" name="Picture 4" descr="Student1.PNG"/>
          <p:cNvPicPr/>
          <p:nvPr/>
        </p:nvPicPr>
        <p:blipFill>
          <a:blip r:embed="rId2"/>
          <a:stretch/>
        </p:blipFill>
        <p:spPr>
          <a:xfrm>
            <a:off x="863640" y="7391520"/>
            <a:ext cx="10286640" cy="1599840"/>
          </a:xfrm>
          <a:prstGeom prst="rect">
            <a:avLst/>
          </a:prstGeom>
          <a:ln w="0">
            <a:solidFill>
              <a:srgbClr val="000000"/>
            </a:solidFill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Recommendation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These students disregarded the other point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40 minutes class did not allow for discussion of thi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Return to the ambiguous case in the following lesson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Draw longer arcs /circles to help train students’ eyes to notice unusual case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Students do not see arcs as part of a full circle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Full Circle gives us: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418" name="Content Placeholder 3" descr="two circles.PNG"/>
          <p:cNvPicPr/>
          <p:nvPr/>
        </p:nvPicPr>
        <p:blipFill>
          <a:blip r:embed="rId1"/>
          <a:srcRect l="-4883" t="0" r="-4883" b="0"/>
          <a:stretch/>
        </p:blipFill>
        <p:spPr>
          <a:xfrm>
            <a:off x="650160" y="2288880"/>
            <a:ext cx="10295280" cy="68922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Implications for teaching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6000"/>
          </a:bodyPr>
          <a:p>
            <a:pPr marL="374400" indent="-37440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Formulate clear meaningful questions to extend students’ knowledge: 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74400" indent="-37440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Learned problem-solving is not solving a task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74400" indent="-37440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Active learning is not about rolling a die or using unifix cubes etc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74400" indent="-37440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Active learning is so much more as this lesson illustrtraed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74400" indent="-37440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Lack conviction of students’ abilities to problem-solve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74400" indent="-37440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Worthwhile to continue to engage in </a:t>
            </a:r>
            <a:r>
              <a:rPr b="0" i="1" lang="en-US" sz="3700" spc="-1" strike="noStrike">
                <a:solidFill>
                  <a:srgbClr val="000000"/>
                </a:solidFill>
                <a:latin typeface="Trebuchet MS"/>
              </a:rPr>
              <a:t>Reflections on Practice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Any questions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pic>
        <p:nvPicPr>
          <p:cNvPr id="422" name="Content Placeholder 13" descr=""/>
          <p:cNvPicPr/>
          <p:nvPr/>
        </p:nvPicPr>
        <p:blipFill>
          <a:blip r:embed="rId1"/>
          <a:srcRect l="-44041" t="0" r="-44041" b="0"/>
          <a:stretch/>
        </p:blipFill>
        <p:spPr>
          <a:xfrm>
            <a:off x="650160" y="2288880"/>
            <a:ext cx="10295280" cy="6892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" descr=""/>
          <p:cNvPicPr/>
          <p:nvPr/>
        </p:nvPicPr>
        <p:blipFill>
          <a:blip r:embed="rId2"/>
          <a:stretch/>
        </p:blipFill>
        <p:spPr>
          <a:xfrm>
            <a:off x="6035760" y="4289760"/>
            <a:ext cx="931680" cy="11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788360" y="758520"/>
            <a:ext cx="7260480" cy="4078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6000" spc="-1" strike="noStrike" cap="all">
                <a:solidFill>
                  <a:srgbClr val="000000"/>
                </a:solidFill>
                <a:latin typeface="Trebuchet MS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770720" y="5034600"/>
            <a:ext cx="7274160" cy="15660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t">
            <a:noAutofit/>
          </a:bodyPr>
          <a:p>
            <a:pPr indent="0" algn="r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1" i="1" lang="en-IE" sz="3100" spc="-1" strike="noStrike">
                <a:solidFill>
                  <a:srgbClr val="ffffff"/>
                </a:solidFill>
                <a:latin typeface="Trebuchet MS"/>
              </a:rPr>
              <a:t>Maths Counts 201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3835440" y="4419720"/>
            <a:ext cx="3301560" cy="18666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2"/>
          <a:stretch/>
        </p:blipFill>
        <p:spPr>
          <a:xfrm>
            <a:off x="3759120" y="8483760"/>
            <a:ext cx="891504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Teachers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Roy Hession: Coláiste Cholmáin, Claremorri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Joanna Pres-Jennings: Coláiste Iognáid, Galway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Christina Kennedy: Seamount College, Kinvara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8026560" y="637524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"/>
          <p:cNvPicPr/>
          <p:nvPr/>
        </p:nvPicPr>
        <p:blipFill>
          <a:blip r:embed="rId2"/>
          <a:stretch/>
        </p:blipFill>
        <p:spPr>
          <a:xfrm>
            <a:off x="4673520" y="6172200"/>
            <a:ext cx="2768400" cy="276840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"/>
          <p:cNvPicPr/>
          <p:nvPr/>
        </p:nvPicPr>
        <p:blipFill>
          <a:blip r:embed="rId3"/>
          <a:stretch/>
        </p:blipFill>
        <p:spPr>
          <a:xfrm>
            <a:off x="787320" y="5904720"/>
            <a:ext cx="3580920" cy="29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This Research Lesson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 rot="16200000">
            <a:off x="2907000" y="-163440"/>
            <a:ext cx="6021720" cy="11836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 vert="eaVert">
            <a:normAutofit/>
          </a:bodyPr>
          <a:p>
            <a:pPr marL="487440" indent="-487440">
              <a:lnSpc>
                <a:spcPct val="100000"/>
              </a:lnSpc>
              <a:spcBef>
                <a:spcPts val="853"/>
              </a:spcBef>
              <a:buClr>
                <a:srgbClr val="336666"/>
              </a:buClr>
              <a:buSzPct val="73000"/>
              <a:buFont typeface="Wingdings 2" charset="2"/>
              <a:buChar char=""/>
            </a:pPr>
            <a:r>
              <a:rPr b="0" lang="en-IE" sz="4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Second Year Student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487440" indent="-4874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IE" sz="4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Congruent Triangles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487440" indent="-487440">
              <a:lnSpc>
                <a:spcPct val="100000"/>
              </a:lnSpc>
              <a:spcBef>
                <a:spcPts val="853"/>
              </a:spcBef>
              <a:buClr>
                <a:srgbClr val="336666"/>
              </a:buClr>
              <a:buSzPct val="73000"/>
              <a:buFont typeface="Wingdings 2" charset="2"/>
              <a:buChar char=""/>
            </a:pPr>
            <a:r>
              <a:rPr b="0" lang="en-IE" sz="4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Lesson taught February 2016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  <a:p>
            <a:pPr marL="487440" indent="-487440">
              <a:lnSpc>
                <a:spcPct val="100000"/>
              </a:lnSpc>
              <a:spcBef>
                <a:spcPts val="853"/>
              </a:spcBef>
              <a:buClr>
                <a:srgbClr val="336666"/>
              </a:buClr>
              <a:buSzPct val="73000"/>
              <a:buFont typeface="Wingdings 2" charset="2"/>
              <a:buChar char=""/>
            </a:pPr>
            <a:r>
              <a:rPr b="0" lang="en-IE" sz="4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 </a:t>
            </a:r>
            <a:r>
              <a:rPr b="0" lang="en-IE" sz="4800" spc="-1" strike="noStrike">
                <a:solidFill>
                  <a:srgbClr val="000000"/>
                </a:solidFill>
                <a:latin typeface="Trebuchet MS"/>
                <a:ea typeface="ＭＳ Ｐゴシック"/>
              </a:rPr>
              <a:t>(40 minute class)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7300" spc="-1" strike="noStrike" cap="all">
                <a:solidFill>
                  <a:srgbClr val="000000"/>
                </a:solidFill>
                <a:latin typeface="Trebuchet MS"/>
              </a:rPr>
              <a:t>Aims of the Lesson</a:t>
            </a:r>
            <a:endParaRPr b="0" lang="en-US" sz="73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83000"/>
          </a:bodyPr>
          <a:p>
            <a:pPr indent="0">
              <a:lnSpc>
                <a:spcPct val="100000"/>
              </a:lnSpc>
              <a:spcBef>
                <a:spcPts val="853"/>
              </a:spcBef>
              <a:buNone/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349560" indent="-34956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en-US" sz="3700" spc="-1" strike="noStrike">
                <a:solidFill>
                  <a:srgbClr val="000000"/>
                </a:solidFill>
                <a:latin typeface="Trebuchet MS"/>
              </a:rPr>
              <a:t>Short term aim:</a:t>
            </a:r>
            <a:r>
              <a:rPr b="1" i="1" lang="en-US" sz="3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We would like our students to establish what is the least amount of information required in order for two triangles to be considered congruent.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49560" indent="-34956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1" lang="en-US" sz="3700" spc="-1" strike="noStrike">
                <a:solidFill>
                  <a:srgbClr val="000000"/>
                </a:solidFill>
                <a:latin typeface="Trebuchet MS"/>
              </a:rPr>
              <a:t>Long term aims:</a:t>
            </a:r>
            <a:r>
              <a:rPr b="1" i="1" lang="en-US" sz="3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We would like our students: 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666360" indent="-66636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" charset="2"/>
              <a:buAutoNum type="arabicPlain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to gain confidence in dealing with abstract concepts,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666360" indent="-66636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" charset="2"/>
              <a:buAutoNum type="arabicPlain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to develop ideas involved in mathematical proof through the construction of counterexamples.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49560" indent="-34956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We would like to support our students in developing their literacy and numeracy skills through discussing ideas.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Learning Outcomes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4000"/>
          </a:bodyPr>
          <a:p>
            <a:pPr marL="16704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As a result of studying this topic students will be able to: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6648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66480" indent="-36648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decide which conditions are necessary in order to show that two triangles are congruent, 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66480" indent="-36648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produce counterexamples to show that we cannot always draw congruent triangles using any three measurements (in particular, show that AAA and SSA are not sufficient conditions for congruence)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66480" indent="-36648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present logical ideas to their 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960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IE" sz="5400" spc="-1" strike="noStrike" cap="all">
                <a:solidFill>
                  <a:srgbClr val="000000"/>
                </a:solidFill>
                <a:latin typeface="Trebuchet MS"/>
              </a:rPr>
              <a:t>Background &amp; rationale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2289240"/>
            <a:ext cx="10294560" cy="68925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lnSpc>
                <a:spcPct val="100000"/>
              </a:lnSpc>
              <a:spcBef>
                <a:spcPts val="853"/>
              </a:spcBef>
              <a:buNone/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IE" sz="3700" spc="-1" strike="noStrike">
                <a:solidFill>
                  <a:srgbClr val="000000"/>
                </a:solidFill>
                <a:latin typeface="Trebuchet MS"/>
              </a:rPr>
              <a:t>Congruent triangles plays a significant role in Junior &amp; Senior Cycle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IE" sz="3700" spc="-1" strike="noStrike">
                <a:solidFill>
                  <a:srgbClr val="000000"/>
                </a:solidFill>
                <a:latin typeface="Trebuchet MS"/>
              </a:rPr>
              <a:t>Congruent axioms seem dry to student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IE" sz="3700" spc="-1" strike="noStrike">
                <a:solidFill>
                  <a:srgbClr val="000000"/>
                </a:solidFill>
                <a:latin typeface="Trebuchet MS"/>
              </a:rPr>
              <a:t>Challenging topic to teach effectively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About the Unit and the Lesson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8880"/>
            <a:ext cx="1029528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Syllabus: Geometry Course Section 9.1, p.80)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Axiom 4: Congruent Triangles (SAS, ASA &amp; SSS)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Complete triangle constructions given data (SAS,ASA 7 SSS)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-39024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Furthermore “It is intended that all geometrical results on the course would first be encountered by students through investigation” (Geometry Course, section 8.2)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9024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455040"/>
            <a:ext cx="10295280" cy="16254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000000"/>
                </a:solidFill>
                <a:latin typeface="Trebuchet MS"/>
              </a:rPr>
              <a:t>Sequence of lessons</a:t>
            </a:r>
            <a:endParaRPr b="0" lang="en-US" sz="5400" spc="-1" strike="noStrike">
              <a:solidFill>
                <a:srgbClr val="ffffff"/>
              </a:solidFill>
              <a:latin typeface="Chalkduster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8880"/>
            <a:ext cx="10728720" cy="68922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98000"/>
          </a:bodyPr>
          <a:p>
            <a:pPr marL="38232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Students learn about congruent figure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82320" indent="-38232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Same size &amp; same shape (use A4 sheets of paper, triangles &amp; polygons made from Geostrips)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82320" indent="-382320">
              <a:lnSpc>
                <a:spcPct val="100000"/>
              </a:lnSpc>
              <a:spcBef>
                <a:spcPts val="853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rebuchet MS"/>
              </a:rPr>
              <a:t>Common features of congruent polygons (angles &amp; side lengths)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8232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US" sz="3700" spc="-1" strike="noStrike" cap="all">
                <a:solidFill>
                  <a:schemeClr val="accent4">
                    <a:lumMod val="75000"/>
                  </a:schemeClr>
                </a:solidFill>
                <a:latin typeface="Trebuchet MS"/>
              </a:rPr>
              <a:t>Sequence of lessons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8232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US" sz="3700" spc="-1" strike="noStrike" cap="all">
                <a:solidFill>
                  <a:schemeClr val="accent4">
                    <a:lumMod val="75000"/>
                  </a:schemeClr>
                </a:solidFill>
                <a:latin typeface="Trebuchet MS"/>
              </a:rPr>
              <a:t>Synthetic Geometry 2: First Year Handbook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marL="38232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US" sz="3700" spc="-1" strike="noStrike" cap="all">
                <a:solidFill>
                  <a:schemeClr val="accent4">
                    <a:lumMod val="75000"/>
                  </a:schemeClr>
                </a:solidFill>
                <a:latin typeface="Trebuchet MS"/>
              </a:rPr>
              <a:t>www.projectmaths.ie</a:t>
            </a: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3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pulent">
  <a:themeElements>
    <a:clrScheme name="Opulent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  <Words>1246</Words>
  <Paragraphs>1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1T17:35:09Z</dcterms:created>
  <dc:creator>Kieran Sweeney</dc:creator>
  <dc:description/>
  <dc:language>en-US</dc:language>
  <cp:lastModifiedBy>Anne Brosnan</cp:lastModifiedBy>
  <dcterms:modified xsi:type="dcterms:W3CDTF">2016-04-01T17:36:53Z</dcterms:modified>
  <cp:revision>38</cp:revision>
  <dc:subject/>
  <dc:title>Reflections on Pract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Custom</vt:lpwstr>
  </property>
  <property fmtid="{D5CDD505-2E9C-101B-9397-08002B2CF9AE}" pid="4" name="Slides">
    <vt:r8>29</vt:r8>
  </property>
</Properties>
</file>