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6F0-7A81-4559-9EDE-D7794970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FE3-CB01-41CE-853C-F8ADFB5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A87-B456-4DF9-8A87-5E90906D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45A-9084-44CE-A9D1-881385FA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160-9949-4CD8-9340-D398FAD4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8567-B8C2-481B-B02B-614380DA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156C-48E2-406D-ABF8-6192CE30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B12E-1873-440E-87BE-6AF19D96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2F4-1D3D-4BCE-BD4B-E3BD4AF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6BE-35F5-4F62-AC7E-38763D0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B829-AA44-4943-A2C9-425BD3D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5AE-9B91-49BD-9ECD-F3ECD0C5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D496-A7C0-4FCD-BE55-A4DAD0F2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48CA-DFF8-4736-89A9-CD7BF93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09E-40FF-4597-A063-B4AFAEB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5DA3-7314-4F88-8196-C805397B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666A-1314-45FC-B6EA-FB60FE8C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3FAD-4654-4C97-ACDB-D4698F00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39A2-4253-432C-822A-A95D034D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44B6-86C9-45F0-8CDB-DD009CD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041F-2B67-4892-B828-5786B403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8E4F-5957-4366-8E10-B7FEC9B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D58-FFBC-43C0-A1E9-A43C5FD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59DA-B349-43FF-8537-6CB32CB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3598-4927-4675-AF50-ED7F5D9C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9C12-F7F6-4E51-8C2C-F80F022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D832-66F7-459B-B4DA-D91419BC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F178-4E2D-4375-83EC-6BD8BAC3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7261-0AE4-4232-8DEF-7E46512C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204E-B0EA-4F96-8C90-9188046D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AD36-5786-445C-B20E-AB8CD828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B64D-CD62-4965-925F-3801E29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A91C0-1505-47CE-8300-B28A705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B3C-7FF5-46BF-8465-1FFA7DB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1A70-100E-48CE-8D73-D8D18E7A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B307-0742-402D-B9CA-7A98AFA2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6139-C2A7-4D4E-B108-055B44E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1671-0C3D-4FF7-B612-C45F9C0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6CAE-CA6D-41DD-B00C-72CEB4D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FD64-5C40-42E2-99EB-72E6ECD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B67E-6FCC-4F4E-AE26-2ECF454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AF03-F860-447F-B257-892DFDED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683B-3BC1-4CDB-A432-55B9698B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5C2-9EB6-42E3-9BCE-DE9C2DB8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500-B803-4481-9FCF-2C690656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2F3-DC71-4E58-9413-393523B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1AA-406F-48BC-99FA-315FE2D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7E8-B4B4-4275-9D98-91B22E6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6600" indent="-406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5400" indent="-3250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556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16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904032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004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7874D1-4F45-465B-BABA-0EF890516B10}" type="slidenum"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 flipV="1">
            <a:off x="1950840" y="433080"/>
            <a:ext cx="360" cy="18432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sp>
        <p:nvSpPr>
          <p:cNvPr id="42" name="Oval 8" hidden="1"/>
          <p:cNvSpPr/>
          <p:nvPr/>
        </p:nvSpPr>
        <p:spPr>
          <a:xfrm>
            <a:off x="217440" y="1192320"/>
            <a:ext cx="323640" cy="325080"/>
          </a:xfrm>
          <a:prstGeom prst="ellipse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3" name="Oval 9" hidden="1"/>
          <p:cNvSpPr/>
          <p:nvPr/>
        </p:nvSpPr>
        <p:spPr>
          <a:xfrm>
            <a:off x="768240" y="1192320"/>
            <a:ext cx="323640" cy="32508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4" name="Oval 10" hidden="1"/>
          <p:cNvSpPr/>
          <p:nvPr/>
        </p:nvSpPr>
        <p:spPr>
          <a:xfrm>
            <a:off x="1319040" y="1192320"/>
            <a:ext cx="323640" cy="32508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709720" y="1733400"/>
            <a:ext cx="360" cy="2925720"/>
          </a:xfrm>
          <a:prstGeom prst="line">
            <a:avLst/>
          </a:prstGeom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sp>
        <p:nvSpPr>
          <p:cNvPr id="46" name="Oval 8"/>
          <p:cNvSpPr/>
          <p:nvPr/>
        </p:nvSpPr>
        <p:spPr>
          <a:xfrm>
            <a:off x="231840" y="2990880"/>
            <a:ext cx="495000" cy="495000"/>
          </a:xfrm>
          <a:prstGeom prst="ellipse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7" name="Oval 9"/>
          <p:cNvSpPr/>
          <p:nvPr/>
        </p:nvSpPr>
        <p:spPr>
          <a:xfrm>
            <a:off x="1052640" y="2994120"/>
            <a:ext cx="496440" cy="49320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873080" y="2994120"/>
            <a:ext cx="495000" cy="49320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34440" y="1950840"/>
            <a:ext cx="9211320" cy="2492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itle style</a:t>
            </a:r>
            <a:endParaRPr b="0" lang="en-US" sz="77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078920" y="8886960"/>
            <a:ext cx="216648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5418000" y="8886960"/>
            <a:ext cx="411768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143160" y="8886960"/>
            <a:ext cx="173304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0E0EB5-95B3-4ADC-9C70-9704C9BB6142}" type="slidenum">
              <a: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7"/>
          <p:cNvSpPr/>
          <p:nvPr/>
        </p:nvSpPr>
        <p:spPr>
          <a:xfrm flipV="1">
            <a:off x="1950840" y="433080"/>
            <a:ext cx="360" cy="18432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17440" y="1192320"/>
            <a:ext cx="323640" cy="325080"/>
          </a:xfrm>
          <a:prstGeom prst="ellipse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2" name="Oval 9"/>
          <p:cNvSpPr/>
          <p:nvPr/>
        </p:nvSpPr>
        <p:spPr>
          <a:xfrm>
            <a:off x="768240" y="1192320"/>
            <a:ext cx="323640" cy="32508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319040" y="1192320"/>
            <a:ext cx="323640" cy="32508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itle style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623960" indent="-324000">
              <a:lnSpc>
                <a:spcPct val="100000"/>
              </a:lnSpc>
              <a:spcBef>
                <a:spcPts val="680"/>
              </a:spcBef>
              <a:buClr>
                <a:srgbClr val="cccccc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74840" indent="-3240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2572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9428040" y="8886960"/>
            <a:ext cx="270936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659480" y="8886960"/>
            <a:ext cx="411912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2166840" y="8886960"/>
            <a:ext cx="184284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C6B84C-05BA-4632-BB31-A433538C8BD0}" type="slidenum">
              <a: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6600" indent="-406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5400" indent="-3250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556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5016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443480" y="904032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2004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14AADE-D592-4E4B-A3B6-4C2B78194B1E}" type="slidenum"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3480" y="4156560"/>
            <a:ext cx="12090600" cy="2736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Using Linear Patterns to Foster Algebraic Reasoning</a:t>
            </a:r>
            <a:endParaRPr b="0" lang="en-US" sz="8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77" name="Picture 4" descr="tile_blackboard_green"/>
          <p:cNvPicPr/>
          <p:nvPr/>
        </p:nvPicPr>
        <p:blipFill>
          <a:blip r:embed="rId1"/>
          <a:stretch/>
        </p:blipFill>
        <p:spPr>
          <a:xfrm>
            <a:off x="5395320" y="2305440"/>
            <a:ext cx="2555640" cy="1694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ile_blackboard_green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351000" y="196560"/>
            <a:ext cx="1235628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IE" sz="10600" spc="-1" strike="noStrike">
                <a:solidFill>
                  <a:srgbClr val="1f497d"/>
                </a:solidFill>
                <a:latin typeface="Avenir"/>
                <a:ea typeface="Chalkdus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Meet T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5226120" y="3024360"/>
            <a:ext cx="3607560" cy="52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our lesson was to make expressing the growth of a pattern as easy as possible for stud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ed’s growth is a very natural progression of adding to arms and leg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pic>
        <p:nvPicPr>
          <p:cNvPr id="203" name="Content Placeholder 3" descr=""/>
          <p:cNvPicPr/>
          <p:nvPr/>
        </p:nvPicPr>
        <p:blipFill>
          <a:blip r:embed="rId1"/>
          <a:stretch/>
        </p:blipFill>
        <p:spPr>
          <a:xfrm>
            <a:off x="421200" y="2068560"/>
            <a:ext cx="12330000" cy="70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rough discussion and predicting student responses it emerged that Ted needed some tweak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When we posed the question ‘what stays the same each time’ we realised it was likely that students would develop some misconcep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352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66840" y="4444920"/>
            <a:ext cx="9970560" cy="4116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is is Ted at birth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is stage was essential in eliminating misconcep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It also gives a very basic understanding of what can be very complex: time 0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6106680" y="316800"/>
            <a:ext cx="2091240" cy="34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Aim of lesson shared with students at start of lesso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Be able to describe the growth pattern in your own words and use this understanding to identify how many matchsticks are needed for any term in the pattern.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Key words such as ‘term’ are explained at this stag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to task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students are introduced to images of Ted at birth and then at his 1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st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,2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nd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 and 3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rd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 birthday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Student Activity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In pairs, students must replicate ted on his first, second and third birthday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students then make the fourth and fifth term of the pattern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Timing: 5 minu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8806680" y="5668920"/>
            <a:ext cx="3672000" cy="34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69000" y="162396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The students are asked how many matchsticks will be needed to make Ted on his 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and 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birthda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71520" y="378864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A variety of ideas to generate the number of matchsticks for Ted’s 20</a:t>
            </a:r>
            <a:r>
              <a:rPr b="0" lang="en-IE" sz="43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th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 and 100</a:t>
            </a:r>
            <a:r>
              <a:rPr b="0" lang="en-IE" sz="43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th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 birthday are encourag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work in a groups of 4 sharing their idea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iming: 10 minu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Stray and stay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Each group of 4 is broken, teacher assigns numbers 1 or 2 to each stu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Those numbered 1 are the ‘teachers’ and they stay put, those numbered 2 are the ‘student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The students visit other tables where the ‘teacher’ explains the method used by their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Timing: 10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33720" y="1951200"/>
            <a:ext cx="9212040" cy="2491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Cathy Cradock &amp; Hilary Griffin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808080"/>
                </a:solidFill>
                <a:latin typeface="Arial"/>
                <a:ea typeface="MS PGothic"/>
              </a:rPr>
              <a:t>St. Leo’s Carlow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81" name="Picture 2" descr="http://static1.squarespace.com/static/5320ac4ee4b0ab0fe0aab47d/t/538c9e3fe4b06d612ab64e99/1456696293198/?format=1500w"/>
          <p:cNvPicPr/>
          <p:nvPr/>
        </p:nvPicPr>
        <p:blipFill>
          <a:blip r:embed="rId1"/>
          <a:stretch/>
        </p:blipFill>
        <p:spPr>
          <a:xfrm>
            <a:off x="5854320" y="5586840"/>
            <a:ext cx="38260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Differentiatio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Where appropriate, students were encouraged to extend their think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What rule would work for every single term?’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‘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If I used ---- matchsticks, how old is Ted’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A sheet with prompting questions was given to groups struggling with task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Board work: Assessment for learning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board is divided into sections and students described their method on the boar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414320" y="4732920"/>
            <a:ext cx="8086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1"/>
          <a:stretch/>
        </p:blipFill>
        <p:spPr>
          <a:xfrm>
            <a:off x="2166840" y="2831400"/>
            <a:ext cx="99705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provided a variety of algorithm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d no difficulty expressing the growth of the patter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One group even explained how the repeated addition for successive terms becomes multiplica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Teacher feedback, consolidation and extension of learning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Teacher extended task: what would I do if I wanted to know how many matchsticks needed when Ted is 200 years 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Use think-pair-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Teacher feedback, consolidation and extension of learning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Students volunteered other methods which we didn’t predict (they involved using stage 2 as a starting point or using stage 5 as a starting poi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Arial"/>
                <a:ea typeface="MS PGothic"/>
              </a:rPr>
              <a:t>This is scary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Teacher responded with ‘Let’s test it’ and the methods were subsequently accepted by the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eacher then extended the discussion to a sentence to describe the general ter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uld also be encouraged to replace words with symbols in order to save time writing sentence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Homework sheets were assigned and clarified, time was given to commence homework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4160520" y="271440"/>
            <a:ext cx="5068080" cy="82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Materia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PowerPoint to show stages of Ted’s life is essent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Each pair was provided with a box of match stick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Prompting questions were prepared to assist any group struggling with task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Homework she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Plan for Peer Observatio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ree teachers observed the less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Photographs were taken and also notes for feedback were take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Observing teachers questioned students for understand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Over to you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1074384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tudents learn when they study linear pattern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66840" y="278856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found the tasks relatively easy and completed the tasks quickly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really enjoyed the ‘Stray and Stay’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/Student Learning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Misconceptions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we had expected students to use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a  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able format or to attempt to build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more shapes with matchsticks but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mostly they went straight to the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algorith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Difficulties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d the Ted task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very easily but difficulties arose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when extending their learning to the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homework task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Confusion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asks need to be explained very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clearl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Insights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8780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Students find the work easier than anticipated and would have been put off by a teacher led lesson over explaining and not allowing them to come up with ow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urprising idea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Student questionn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Board Pla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Insert pictures of Board Pl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77960" y="2162880"/>
            <a:ext cx="1007280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Recommendation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uld be encouraged to apply their reasoning to describe relationships in other subjects e.g. Hooke’s Law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Difficulties may arise as this would require some planning between depar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Quicken pace of lesson and get a second(very easy) linear pattern covered – the solution could be shared early on and time spent on the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Any Questions?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480" y="4516920"/>
            <a:ext cx="12090600" cy="2736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258" name="Picture 4" descr="tile_blackboard_green"/>
          <p:cNvPicPr/>
          <p:nvPr/>
        </p:nvPicPr>
        <p:blipFill>
          <a:blip r:embed="rId1"/>
          <a:stretch/>
        </p:blipFill>
        <p:spPr>
          <a:xfrm>
            <a:off x="5024520" y="2356560"/>
            <a:ext cx="3274920" cy="1845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tile_blackboard_green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399600" y="196560"/>
            <a:ext cx="1225872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1f497d"/>
                </a:solidFill>
                <a:latin typeface="Bradley Hand ITC"/>
                <a:ea typeface="Chalkdus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ght on </a:t>
            </a: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9/02/2016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ght to first years [mixed ability, 30 girls]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lasted 40 minu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d by three teacher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Context within scheme of work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studied sets, natural numbers, the fundamental principle of counting, integers, rational numbers, decimals, percentages and probability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is is the first introduction to Patterns and Al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13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66840" y="1996560"/>
            <a:ext cx="9970560" cy="6564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eachers are aware of the importance of stressing multiplication as a process of repeated addition and introducing the concept of like terms when teaching natural number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It is hoped that as a department we will be able to create a suite of lesson plans to allow a seamless transition from patterns to al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 flipV="1">
            <a:off x="7510680" y="8731440"/>
            <a:ext cx="1583640" cy="22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IE" sz="4300" spc="-1" strike="noStrike">
                <a:solidFill>
                  <a:srgbClr val="ffffff"/>
                </a:solidFill>
                <a:latin typeface="Chalkduster"/>
                <a:ea typeface="Chalkduster"/>
              </a:rPr>
              <a:t>it is hoped that as a department we will be able to create a suite of lesson plans to allow a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IE" sz="4300" spc="-1" strike="noStrike">
                <a:solidFill>
                  <a:srgbClr val="ffffff"/>
                </a:solidFill>
                <a:latin typeface="Chalkduster"/>
                <a:ea typeface="Chalkduster"/>
              </a:rPr>
              <a:t>seamless transition from patterns to al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Learning Goa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s will recognise linear patter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s will develop rules to describe the relationship between two variab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s will understand the power of the rule to describe the general ter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Design of Lesso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Our Project Maths RDO facilitated a number of sessions and explained the process of teaching through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Evolving a lesson plan from presenting students with a problem to solve was very appe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  <a:ea typeface="MS PGothic"/>
              </a:rPr>
              <a:t>Meeting times were flexible and with much difficulty we managed to meet as a team on a number of occa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5400" spc="-1" strike="noStrike">
                <a:solidFill>
                  <a:srgbClr val="000000"/>
                </a:solidFill>
                <a:latin typeface="Arial"/>
                <a:ea typeface="MS PGothic"/>
              </a:rPr>
              <a:t>Using linear patterns to foster students’ algebraic reasoning</a:t>
            </a:r>
            <a:br>
              <a:rPr sz="6000"/>
            </a:b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are presented with a linear pattern and asked to predict the pattern a number of steps further on. Students are then asked to extend their prediction and write down a description of the relationship between the two variables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  <Words>1052</Words>
  <Paragraphs>1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14:13:56Z</dcterms:created>
  <dc:creator>Kieran Sweeney</dc:creator>
  <dc:description/>
  <dc:language>en-US</dc:language>
  <cp:lastModifiedBy>Stephen Gammell</cp:lastModifiedBy>
  <dcterms:modified xsi:type="dcterms:W3CDTF">2016-03-30T11:59:29Z</dcterms:modified>
  <cp:revision>53</cp:revision>
  <dc:subject/>
  <dc:title>Reflections o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Custom</vt:lpwstr>
  </property>
  <property fmtid="{D5CDD505-2E9C-101B-9397-08002B2CF9AE}" pid="4" name="Slides">
    <vt:r8>38</vt:r8>
  </property>
</Properties>
</file>