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hdphoto6.wdp" ContentType="image/vnd.ms-photo"/>
  <Override PartName="/ppt/media/image16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hdphoto1.wdp" ContentType="image/vnd.ms-photo"/>
  <Override PartName="/ppt/media/image8.png" ContentType="image/png"/>
  <Override PartName="/ppt/media/image7.png" ContentType="image/png"/>
  <Override PartName="/ppt/media/image17.png" ContentType="image/png"/>
  <Override PartName="/ppt/media/image9.png" ContentType="image/png"/>
  <Override PartName="/ppt/media/image1.png" ContentType="image/png"/>
  <Override PartName="/ppt/media/hdphoto2.wdp" ContentType="image/vnd.ms-photo"/>
  <Override PartName="/ppt/media/image12.png" ContentType="image/png"/>
  <Override PartName="/ppt/media/image18.png" ContentType="image/png"/>
  <Override PartName="/ppt/media/image20.png" ContentType="image/png"/>
  <Override PartName="/ppt/media/hdphoto3.wdp" ContentType="image/vnd.ms-photo"/>
  <Override PartName="/ppt/media/image13.png" ContentType="image/png"/>
  <Override PartName="/ppt/media/image19.png" ContentType="image/png"/>
  <Override PartName="/ppt/media/image21.png" ContentType="image/png"/>
  <Override PartName="/ppt/media/hdphoto4.wdp" ContentType="image/vnd.ms-photo"/>
  <Override PartName="/ppt/media/image14.png" ContentType="image/png"/>
  <Override PartName="/ppt/media/image24.jpeg" ContentType="image/jpeg"/>
  <Override PartName="/ppt/media/image22.png" ContentType="image/png"/>
  <Override PartName="/ppt/media/image15.png" ContentType="image/png"/>
  <Override PartName="/ppt/media/hdphoto5.wdp" ContentType="image/vnd.ms-photo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13004800" cy="9753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00B2-F9D2-4C90-96A5-948B30B8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9B9-221E-47F0-A5ED-73C8C7EE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836F-7751-4196-A1A7-024DA426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28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1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28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964E-1FCA-4444-8A7C-2C884367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2C98-26DC-4200-9367-F5B878F9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6D30-9A04-4E66-A2EF-3E7344AD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ABC7-9B57-4796-BF7B-068DF45B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3D93-EE60-4175-833E-3CBD20F1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0AB7-82A4-4374-9981-BF4D6A7C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50160" y="390600"/>
            <a:ext cx="1170396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ABD1-DB6C-451B-B5FA-484CC2B2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6FCF-408A-4646-A8CA-50F455AF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A91-96CD-4CCA-B632-DC615873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816D-AB83-4631-BADF-21CF7E44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BF98-624A-4C23-9E04-41CE488F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3C07-C510-48B9-88A7-C8746919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A2B6-841F-4C77-8943-80B5B1E8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728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5647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501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60728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A67E-3129-4416-866B-06F57B2D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3979A-4EBD-45E2-A755-FE2DAD19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0167-BD4F-428A-994B-CADC8E87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E393-57C6-4146-8A56-C3A72317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079AB-8239-42E8-A19B-8D5B166B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C8F65-68B9-4A93-9B7F-3F09E645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1A2-AD90-49A4-8393-0DF3E9F3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50160" y="390600"/>
            <a:ext cx="1170396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688C7-69B9-4C6E-BD98-746102D9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F34A-61E5-40E0-BFFA-59CAD532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CE635-2254-4B93-B685-87E1FDF6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5F75-A593-4D4A-BB38-EEC58E65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DC667-0916-4D87-98BC-CD6E2826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7CE35-E778-4AF6-BC8F-BB9556D4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0728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5647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501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0728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7596F-E730-41F5-88AD-8C60AC0C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E4721-1B80-4B01-A4F5-2B0D25CF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A3F1C-EB21-4306-BCA6-B552FB1B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15D55-6CD5-44A8-B8C2-85237E24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B089-B1E9-446F-96BA-AFA56E3A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631AD-0563-4789-B960-6EBD7E1E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F7AC9-E6CF-4BA6-A5BD-8A3F08DE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50160" y="390600"/>
            <a:ext cx="1170396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1C06E-838F-4879-893B-EF68E8CA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D026C-003C-4606-A46F-2E480E38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6C4C9-ACE4-4F59-8CBA-1B4CDB4B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09A32-1DF2-45B3-B733-C326A5B0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8641D-FFB6-4106-9DA3-EE736D1D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371AE-18C5-4692-80ED-85E469DE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0728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564760" y="227592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501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60728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48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E2100-987D-474B-9B3A-18947421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616-3DF2-438E-A794-333CDA19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160" y="390600"/>
            <a:ext cx="1170396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AF29-A995-44DF-9B6B-29C2A25C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1A7-006B-4E49-97B0-06551E0B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64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C9B-6328-429A-A0F2-8F88DB8F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16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5920"/>
            <a:ext cx="571140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160" y="5637960"/>
            <a:ext cx="11703960" cy="30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458-A58B-492C-B2E7-EECF5A71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160" y="9040320"/>
            <a:ext cx="3034080" cy="518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480" y="9040320"/>
            <a:ext cx="4117680" cy="518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20040" y="9040320"/>
            <a:ext cx="30340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700" spc="-1" strike="noStrike">
                <a:solidFill>
                  <a:srgbClr val="888888"/>
                </a:solidFill>
                <a:latin typeface="Short Stack"/>
                <a:ea typeface="Short St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0E9BF4FF-796F-4F20-9034-01FCA9090038}" type="slidenum">
              <a:rPr b="0" lang="en-US" sz="1700" spc="-1" strike="noStrike">
                <a:solidFill>
                  <a:srgbClr val="888888"/>
                </a:solidFill>
                <a:latin typeface="Short Stack"/>
                <a:ea typeface="Short Stack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ie 6"/>
          <p:cNvSpPr/>
          <p:nvPr/>
        </p:nvSpPr>
        <p:spPr>
          <a:xfrm>
            <a:off x="-1160280" y="-1160280"/>
            <a:ext cx="2330640" cy="233064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42" name="Oval 7"/>
          <p:cNvSpPr/>
          <p:nvPr/>
        </p:nvSpPr>
        <p:spPr>
          <a:xfrm>
            <a:off x="240120" y="29880"/>
            <a:ext cx="2420640" cy="242064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43" name="Donut 10"/>
          <p:cNvSpPr/>
          <p:nvPr/>
        </p:nvSpPr>
        <p:spPr>
          <a:xfrm rot="2315400">
            <a:off x="260280" y="1500480"/>
            <a:ext cx="1600560" cy="156780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1440360" y="0"/>
            <a:ext cx="11563920" cy="97534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1443600" y="0"/>
            <a:ext cx="103680" cy="97534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100" spc="-1" strike="noStrike">
                <a:solidFill>
                  <a:srgbClr val="572314"/>
                </a:solidFill>
                <a:latin typeface="Gill Sans MT"/>
              </a:rPr>
              <a:t>Click to edit Master title style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600" spc="-1" strike="noStrike">
                <a:solidFill>
                  <a:srgbClr val="000000"/>
                </a:solidFill>
                <a:latin typeface="Gill Sans MT"/>
              </a:rPr>
              <a:t>Click to edit Master text styles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  <a:p>
            <a:pPr lvl="1" marL="910440" indent="-338040">
              <a:lnSpc>
                <a:spcPct val="100000"/>
              </a:lnSpc>
              <a:spcBef>
                <a:spcPts val="782"/>
              </a:spcBef>
              <a:buClr>
                <a:srgbClr val="3891a7"/>
              </a:buClr>
              <a:buFont typeface="Verdana"/>
              <a:buChar char="◦"/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Second level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lvl="2" marL="1261440" indent="-325080">
              <a:lnSpc>
                <a:spcPct val="100000"/>
              </a:lnSpc>
              <a:spcBef>
                <a:spcPts val="68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</a:rPr>
              <a:t>Third level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lvl="3" marL="1560600" indent="-246960">
              <a:lnSpc>
                <a:spcPct val="100000"/>
              </a:lnSpc>
              <a:spcBef>
                <a:spcPts val="561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846800" indent="-259920">
              <a:lnSpc>
                <a:spcPct val="100000"/>
              </a:lnSpc>
              <a:spcBef>
                <a:spcPts val="561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93640" y="8967960"/>
            <a:ext cx="3034080" cy="676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8128080" y="8967960"/>
            <a:ext cx="4117680" cy="676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2250440" y="8967960"/>
            <a:ext cx="649800" cy="676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en-US" sz="2000" spc="-1" strike="noStrike">
                <a:solidFill>
                  <a:srgbClr val="336666"/>
                </a:solidFill>
                <a:latin typeface="Short Stack"/>
                <a:ea typeface="Short St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B2E75035-DC09-48CD-8E89-4691EE97D9F6}" type="slidenum">
              <a:rPr b="0" lang="en-US" sz="2000" spc="-1" strike="noStrike">
                <a:solidFill>
                  <a:srgbClr val="336666"/>
                </a:solidFill>
                <a:latin typeface="Short Stack"/>
                <a:ea typeface="Short Stack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ie 6"/>
          <p:cNvSpPr/>
          <p:nvPr/>
        </p:nvSpPr>
        <p:spPr>
          <a:xfrm>
            <a:off x="-1160280" y="-1160280"/>
            <a:ext cx="2330640" cy="233064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88" name="Oval 7"/>
          <p:cNvSpPr/>
          <p:nvPr/>
        </p:nvSpPr>
        <p:spPr>
          <a:xfrm>
            <a:off x="240120" y="29880"/>
            <a:ext cx="2420640" cy="242064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89" name="Donut 10"/>
          <p:cNvSpPr/>
          <p:nvPr/>
        </p:nvSpPr>
        <p:spPr>
          <a:xfrm rot="2315400">
            <a:off x="260280" y="1500480"/>
            <a:ext cx="1600560" cy="156780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440360" y="0"/>
            <a:ext cx="11563920" cy="97534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1443600" y="0"/>
            <a:ext cx="103680" cy="975348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Gill Sans MT"/>
              <a:ea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37240" y="511920"/>
            <a:ext cx="10533600" cy="2093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100" spc="-1" strike="noStrike">
                <a:solidFill>
                  <a:srgbClr val="572314"/>
                </a:solidFill>
                <a:latin typeface="Gill Sans MT"/>
              </a:rPr>
              <a:t>Click to edit Master title style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5093640" y="8967960"/>
            <a:ext cx="3034080" cy="676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8128080" y="8967960"/>
            <a:ext cx="4117680" cy="676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12250440" y="8967960"/>
            <a:ext cx="649800" cy="6768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en-US" sz="2000" spc="-1" strike="noStrike">
                <a:solidFill>
                  <a:srgbClr val="336666"/>
                </a:solidFill>
                <a:latin typeface="Short Stack"/>
                <a:ea typeface="Short St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FC448B02-24F6-4392-AE7E-74A4A631D5FA}" type="slidenum">
              <a:rPr b="0" lang="en-US" sz="2000" spc="-1" strike="noStrike">
                <a:solidFill>
                  <a:srgbClr val="336666"/>
                </a:solidFill>
                <a:latin typeface="Short Stack"/>
                <a:ea typeface="Short Stack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7"/>
          <p:cNvSpPr/>
          <p:nvPr/>
        </p:nvSpPr>
        <p:spPr>
          <a:xfrm>
            <a:off x="1310400" y="2010600"/>
            <a:ext cx="298800" cy="29880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65160" bIns="651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dk1"/>
              </a:solidFill>
              <a:latin typeface="Gill Sans MT"/>
              <a:ea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1645920" y="1913040"/>
            <a:ext cx="90720" cy="90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129960" rIns="129960" tIns="32040" bIns="3204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dk1"/>
              </a:solidFill>
              <a:latin typeface="Gill Sans MT"/>
              <a:ea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3600" cy="56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0160" y="390600"/>
            <a:ext cx="11703960" cy="162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50160" y="2275920"/>
            <a:ext cx="11703960" cy="6436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50160" y="9040320"/>
            <a:ext cx="3034080" cy="518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443480" y="9040320"/>
            <a:ext cx="4117680" cy="518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9320040" y="9040320"/>
            <a:ext cx="3034080" cy="518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700" spc="-1" strike="noStrike">
                <a:solidFill>
                  <a:srgbClr val="888888"/>
                </a:solidFill>
                <a:latin typeface="Short Stack"/>
                <a:ea typeface="Short St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51AEE0A0-82B8-4508-A85C-CCC297B166C3}" type="slidenum">
              <a:rPr b="0" lang="en-US" sz="1700" spc="-1" strike="noStrike">
                <a:solidFill>
                  <a:srgbClr val="888888"/>
                </a:solidFill>
                <a:latin typeface="Short Stack"/>
                <a:ea typeface="Short Stack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microsoft.com/office/2007/relationships/hdphoto" Target="../media/hdphoto2.wdp"/><Relationship Id="rId3" Type="http://schemas.openxmlformats.org/officeDocument/2006/relationships/image" Target="../media/image12.png"/><Relationship Id="rId4" Type="http://schemas.microsoft.com/office/2007/relationships/hdphoto" Target="../media/hdphoto3.wdp"/><Relationship Id="rId5" Type="http://schemas.openxmlformats.org/officeDocument/2006/relationships/image" Target="../media/image13.png"/><Relationship Id="rId6" Type="http://schemas.microsoft.com/office/2007/relationships/hdphoto" Target="../media/hdphoto4.wdp"/><Relationship Id="rId7" Type="http://schemas.openxmlformats.org/officeDocument/2006/relationships/image" Target="../media/image14.png"/><Relationship Id="rId8" Type="http://schemas.microsoft.com/office/2007/relationships/hdphoto" Target="../media/hdphoto5.wdp"/><Relationship Id="rId9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microsoft.com/office/2007/relationships/hdphoto" Target="../media/hdphoto6.wdp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3480" y="3436560"/>
            <a:ext cx="12090600" cy="27360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en-US" sz="8000" spc="-1" strike="noStrike">
                <a:solidFill>
                  <a:schemeClr val="dk1"/>
                </a:solidFill>
                <a:latin typeface="Arial"/>
                <a:ea typeface="Arial"/>
              </a:rPr>
              <a:t>Reflections on Practi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Shape 243" descr=""/>
          <p:cNvPicPr/>
          <p:nvPr/>
        </p:nvPicPr>
        <p:blipFill>
          <a:blip r:embed="rId1"/>
          <a:stretch/>
        </p:blipFill>
        <p:spPr>
          <a:xfrm>
            <a:off x="5395320" y="2305440"/>
            <a:ext cx="2555640" cy="1694160"/>
          </a:xfrm>
          <a:prstGeom prst="rect">
            <a:avLst/>
          </a:prstGeom>
          <a:ln w="0">
            <a:noFill/>
          </a:ln>
        </p:spPr>
      </p:pic>
      <p:pic>
        <p:nvPicPr>
          <p:cNvPr id="178" name="Shape 244" descr=""/>
          <p:cNvPicPr/>
          <p:nvPr/>
        </p:nvPicPr>
        <p:blipFill>
          <a:blip r:embed="rId2"/>
          <a:stretch/>
        </p:blipFill>
        <p:spPr>
          <a:xfrm>
            <a:off x="1294920" y="8337600"/>
            <a:ext cx="10467720" cy="1247400"/>
          </a:xfrm>
          <a:prstGeom prst="rect">
            <a:avLst/>
          </a:prstGeom>
          <a:ln w="0">
            <a:noFill/>
          </a:ln>
        </p:spPr>
      </p:pic>
      <p:sp>
        <p:nvSpPr>
          <p:cNvPr id="179" name="Shape 245"/>
          <p:cNvSpPr/>
          <p:nvPr/>
        </p:nvSpPr>
        <p:spPr>
          <a:xfrm>
            <a:off x="761400" y="196560"/>
            <a:ext cx="1153512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10600" spc="-1" strike="noStrike">
                <a:solidFill>
                  <a:schemeClr val="dk2"/>
                </a:solidFill>
                <a:latin typeface="Architects Daughter"/>
                <a:ea typeface="Architects Daughter"/>
              </a:rPr>
              <a:t>Maths Counts 2016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100" spc="-1" strike="noStrike">
                <a:solidFill>
                  <a:srgbClr val="572314"/>
                </a:solidFill>
                <a:latin typeface="Gill Sans MT"/>
              </a:rPr>
              <a:t>Design of the Lesson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01960" y="2059200"/>
            <a:ext cx="11232720" cy="682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22860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Ask students to prove this in as many ways as possible (15mins)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Conclusions, discussion and close of lesson (15mins)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100" spc="-1" strike="noStrike">
                <a:solidFill>
                  <a:srgbClr val="572314"/>
                </a:solidFill>
                <a:latin typeface="Gill Sans MT"/>
              </a:rPr>
              <a:t>Steps of the Lesson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05960" y="185256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22860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Hand out triangle worksheet, scissors, protractor and let them work (5mins)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Hand out second worksheet with parallel lines and a transversal (10mins)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Circulate and observe while the students work, taking notes of different methods used keeping interaction with students to a minimum. 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Choose which students to call to the board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100" spc="-1" strike="noStrike">
                <a:solidFill>
                  <a:srgbClr val="572314"/>
                </a:solidFill>
                <a:latin typeface="Gill Sans MT"/>
              </a:rPr>
              <a:t>Steps of the Lesson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7960" y="192456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22860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Call students to the board starting with most naive answer to most sophisticated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Each student puts their name on the board with their solution (10mins)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Recap on learning outcomes set out, emphasizing it was all their work and give ownership linking to proof  (6mins)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Photo taken of the board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Materi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57200" indent="-228600">
              <a:lnSpc>
                <a:spcPct val="150000"/>
              </a:lnSpc>
              <a:spcBef>
                <a:spcPts val="859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aper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spcBef>
                <a:spcPts val="859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Scissor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spcBef>
                <a:spcPts val="859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rotractor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spcBef>
                <a:spcPts val="859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ulers and Pencil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spcBef>
                <a:spcPts val="859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Worksheets (acute, scalene, right angle, obtuse, parallel lines)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Plan for Peer Observ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7960" y="2059200"/>
            <a:ext cx="1102752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228600" indent="0">
              <a:lnSpc>
                <a:spcPct val="2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We wanted to collect data, observe strategies student used, listen to class discussion, look at different methods, take photographs.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2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We also wanted to look for evidence of group interaction and peer and independent learning.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677960" y="2181960"/>
            <a:ext cx="10008720" cy="648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117000"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0" lang="en-IE" sz="4200" spc="-1" strike="noStrike">
                <a:solidFill>
                  <a:srgbClr val="000000"/>
                </a:solidFill>
                <a:latin typeface="Gill Sans MT"/>
              </a:rPr>
              <a:t>Our plan was: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IE" sz="4200" spc="-1" strike="noStrike">
                <a:solidFill>
                  <a:srgbClr val="000000"/>
                </a:solidFill>
                <a:latin typeface="Gill Sans MT"/>
              </a:rPr>
              <a:t>To have all possible solutions ready to show.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IE" sz="4200" spc="-1" strike="noStrike">
                <a:solidFill>
                  <a:srgbClr val="000000"/>
                </a:solidFill>
                <a:latin typeface="Gill Sans MT"/>
              </a:rPr>
              <a:t>Talk through each one, starting with the simplest or most obvious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IE" sz="4200" spc="-1" strike="noStrike">
                <a:solidFill>
                  <a:srgbClr val="000000"/>
                </a:solidFill>
                <a:latin typeface="Gill Sans MT"/>
              </a:rPr>
              <a:t>Have students explain their methods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IE" sz="4200" spc="-1" strike="noStrike">
                <a:solidFill>
                  <a:srgbClr val="000000"/>
                </a:solidFill>
                <a:latin typeface="Gill Sans MT"/>
              </a:rPr>
              <a:t>Discuss any unexpected solutions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IE" sz="4200" spc="-1" strike="noStrike">
                <a:solidFill>
                  <a:srgbClr val="000000"/>
                </a:solidFill>
                <a:latin typeface="Gill Sans MT"/>
              </a:rPr>
              <a:t>Discuss any errors or misconceptions  </a:t>
            </a:r>
            <a:endParaRPr b="0" lang="en-US" sz="4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Shape 303"/>
          <p:cNvSpPr/>
          <p:nvPr/>
        </p:nvSpPr>
        <p:spPr>
          <a:xfrm>
            <a:off x="1677960" y="556200"/>
            <a:ext cx="1066356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Anticipated Respons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Anticipated Response 1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IE" sz="4600" spc="-1" strike="noStrike">
                <a:solidFill>
                  <a:srgbClr val="000000"/>
                </a:solidFill>
                <a:latin typeface="Gill Sans MT"/>
              </a:rPr>
              <a:t>Use of protractor to measure the angles inside the triangle.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IE" sz="4600" spc="-1" strike="noStrike">
                <a:solidFill>
                  <a:srgbClr val="000000"/>
                </a:solidFill>
                <a:latin typeface="Gill Sans MT"/>
              </a:rPr>
              <a:t>Add the answers to give  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3737160" y="5388840"/>
            <a:ext cx="5289120" cy="28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Anticipated Response 2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IE" sz="4600" spc="-1" strike="noStrike">
                <a:solidFill>
                  <a:srgbClr val="000000"/>
                </a:solidFill>
                <a:latin typeface="Gill Sans MT"/>
              </a:rPr>
              <a:t>Fold the corners of the triangle in to make a straight line angle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6092640" y="4057560"/>
            <a:ext cx="423036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Anticipated Response 3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IE" sz="4600" spc="-1" strike="noStrike">
                <a:solidFill>
                  <a:srgbClr val="000000"/>
                </a:solidFill>
                <a:latin typeface="Gill Sans MT"/>
              </a:rPr>
              <a:t>Cut the corners off the triangle and line the together to form one straight line angle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533960" y="4560480"/>
            <a:ext cx="10832760" cy="337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Anticipated Response 4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IE" sz="4600" spc="-1" strike="noStrike">
                <a:solidFill>
                  <a:srgbClr val="000000"/>
                </a:solidFill>
                <a:latin typeface="Gill Sans MT"/>
              </a:rPr>
              <a:t>Line up the angles using three corresponding triangles, to form a straight line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508480" y="4262400"/>
            <a:ext cx="787104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000" spc="-1" strike="noStrike">
                <a:solidFill>
                  <a:srgbClr val="572314"/>
                </a:solidFill>
                <a:latin typeface="Gill Sans MT"/>
              </a:rPr>
              <a:t>Problem solving leading to proo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lnSpc>
                <a:spcPct val="200000"/>
              </a:lnSpc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 MT"/>
              </a:rPr>
              <a:t>The topic being reflected on was: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200000"/>
              </a:lnSpc>
              <a:buNone/>
              <a:tabLst>
                <a:tab algn="l" pos="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 MT"/>
              </a:rPr>
              <a:t>Geometry and Problem solving leading to formal proof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Anticipated Response 5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IE" sz="4600" spc="-1" strike="noStrike">
                <a:solidFill>
                  <a:srgbClr val="000000"/>
                </a:solidFill>
                <a:latin typeface="Gill Sans MT"/>
              </a:rPr>
              <a:t>Line up the angles using three right triangles, to form a straight line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2838960" y="4467240"/>
            <a:ext cx="7578000" cy="33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Anticipated Response 6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IE" sz="4600" spc="-1" strike="noStrike">
                <a:solidFill>
                  <a:srgbClr val="000000"/>
                </a:solidFill>
                <a:latin typeface="Gill Sans MT"/>
              </a:rPr>
              <a:t>Use knowledge of straight line angles and alternate angles to prove it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020400" y="4672080"/>
            <a:ext cx="7597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37960" y="192456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IE" sz="8800" spc="-1" strike="noStrike">
                <a:solidFill>
                  <a:srgbClr val="572314"/>
                </a:solidFill>
                <a:latin typeface="Gill Sans MT"/>
              </a:rPr>
              <a:t>Flow of the less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How the lesson began: 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49960" y="199656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IE" sz="4600" spc="-1" strike="noStrike">
                <a:solidFill>
                  <a:srgbClr val="000000"/>
                </a:solidFill>
                <a:latin typeface="Gill Sans MT"/>
              </a:rPr>
              <a:t>Students were reminded of the prior knowledge required in order to proceed with this lesson. 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IE" sz="4600" spc="-1" strike="noStrike">
                <a:solidFill>
                  <a:srgbClr val="000000"/>
                </a:solidFill>
                <a:latin typeface="Gill Sans MT"/>
              </a:rPr>
              <a:t>During the previous week we had been studying angles, in particular, alternate angles and straight line angles. 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7960" y="390600"/>
            <a:ext cx="1102752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Board Plan for prior knowled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677960" y="2237760"/>
            <a:ext cx="1066572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Materials provided: 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57200" indent="-228600">
              <a:lnSpc>
                <a:spcPct val="150000"/>
              </a:lnSpc>
              <a:spcBef>
                <a:spcPts val="859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Worksheets with printed triangles  (acute, scalene, right angle, obtuse, parallel lines)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spcBef>
                <a:spcPts val="859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aper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spcBef>
                <a:spcPts val="859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Scissor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spcBef>
                <a:spcPts val="859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Protractor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spcBef>
                <a:spcPts val="859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ulers and Pencil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ff0000"/>
                </a:solidFill>
                <a:latin typeface="Gill Sans MT"/>
              </a:rPr>
              <a:t>Pictures of worksheets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893960" y="2057040"/>
            <a:ext cx="4464000" cy="313596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pic>
        <p:nvPicPr>
          <p:cNvPr id="235" name="Picture 3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836760" y="2068560"/>
            <a:ext cx="5083200" cy="244800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pic>
        <p:nvPicPr>
          <p:cNvPr id="236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893960" y="5584320"/>
            <a:ext cx="4497840" cy="299844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  <p:pic>
        <p:nvPicPr>
          <p:cNvPr id="237" name="Picture 5" descr=""/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860520" y="5272560"/>
            <a:ext cx="4965480" cy="3310200"/>
          </a:xfrm>
          <a:prstGeom prst="rect">
            <a:avLst/>
          </a:prstGeom>
          <a:ln w="9525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ff0000"/>
                </a:solidFill>
                <a:latin typeface="Gill Sans MT"/>
              </a:rPr>
              <a:t>Pictures of worksheets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harpenSoften amount="5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677960" y="2738520"/>
            <a:ext cx="1058724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041920" y="2644560"/>
            <a:ext cx="10663560" cy="62416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IE" sz="4600" spc="-1" strike="noStrike">
                <a:solidFill>
                  <a:srgbClr val="000000"/>
                </a:solidFill>
                <a:latin typeface="Gill Sans MT"/>
              </a:rPr>
              <a:t>What do the size of the angles inside a triangle add to? 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IE" sz="4600" spc="-1" strike="noStrike">
                <a:solidFill>
                  <a:srgbClr val="000000"/>
                </a:solidFill>
                <a:latin typeface="Gill Sans MT"/>
              </a:rPr>
              <a:t>Is this true for all triangles? 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853"/>
              </a:spcBef>
              <a:buNone/>
            </a:pP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IE" sz="4600" spc="-1" strike="noStrike">
                <a:solidFill>
                  <a:srgbClr val="000000"/>
                </a:solidFill>
                <a:latin typeface="Gill Sans MT"/>
              </a:rPr>
              <a:t>In how many different ways can you prove this? 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Title 1"/>
          <p:cNvSpPr/>
          <p:nvPr/>
        </p:nvSpPr>
        <p:spPr>
          <a:xfrm>
            <a:off x="1605960" y="628200"/>
            <a:ext cx="1066356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rmAutofit/>
          </a:bodyPr>
          <a:p>
            <a:pPr>
              <a:lnSpc>
                <a:spcPct val="100000"/>
              </a:lnSpc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Posing the Question  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Find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22860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he most common approach by the students was the use of the protractor to measure angles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7960" y="844200"/>
            <a:ext cx="10533600" cy="8636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rmAutofit fontScale="77000"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Who was involved in the reflection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893960" y="2572560"/>
            <a:ext cx="10533600" cy="58766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65160" anchor="t">
            <a:normAutofit fontScale="96000"/>
          </a:bodyPr>
          <a:p>
            <a:pPr marL="37080" indent="0">
              <a:lnSpc>
                <a:spcPct val="15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0" lang="en-IE" sz="4400" spc="-1" strike="noStrike">
                <a:solidFill>
                  <a:srgbClr val="361309"/>
                </a:solidFill>
                <a:latin typeface="Gill Sans MT"/>
              </a:rPr>
              <a:t>Sharon Mack</a:t>
            </a:r>
            <a:br>
              <a:rPr sz="4400"/>
            </a:br>
            <a:r>
              <a:rPr b="0" lang="en-IE" sz="4400" spc="-1" strike="noStrike">
                <a:solidFill>
                  <a:srgbClr val="361309"/>
                </a:solidFill>
                <a:latin typeface="Gill Sans MT"/>
              </a:rPr>
              <a:t>Nicola Doyle &amp; Claire Shorthall</a:t>
            </a:r>
            <a:br>
              <a:rPr sz="4400"/>
            </a:br>
            <a:r>
              <a:rPr b="0" lang="en-IE" sz="4400" spc="-1" strike="noStrike">
                <a:solidFill>
                  <a:srgbClr val="361309"/>
                </a:solidFill>
                <a:latin typeface="Gill Sans MT"/>
              </a:rPr>
              <a:t>St Marks Community School, Tallaght.</a:t>
            </a:r>
            <a:br>
              <a:rPr sz="4400"/>
            </a:br>
            <a:br>
              <a:rPr sz="4400"/>
            </a:br>
            <a:r>
              <a:rPr b="0" lang="en-IE" sz="4400" spc="-1" strike="noStrike">
                <a:solidFill>
                  <a:srgbClr val="361309"/>
                </a:solidFill>
                <a:latin typeface="Gill Sans MT"/>
              </a:rPr>
              <a:t>Gillian Beere</a:t>
            </a:r>
            <a:br>
              <a:rPr sz="4400"/>
            </a:br>
            <a:r>
              <a:rPr b="0" lang="en-IE" sz="4400" spc="-1" strike="noStrike">
                <a:solidFill>
                  <a:srgbClr val="361309"/>
                </a:solidFill>
                <a:latin typeface="Gill Sans MT"/>
              </a:rPr>
              <a:t>Colaiste Bride, Clondalk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Student at work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 rot="10800000">
            <a:off x="1951920" y="2154960"/>
            <a:ext cx="4971600" cy="49431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 rot="10800000">
            <a:off x="7223040" y="2140920"/>
            <a:ext cx="3888000" cy="49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Find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22860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Other students began by cutting out triangles without fully knowing why.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Student at work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2685960" y="2068560"/>
            <a:ext cx="3850920" cy="63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821960" y="1852560"/>
            <a:ext cx="9883800" cy="6000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2860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Some students cut the corners off the triangle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- some tried to put them in a circl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- some eventually lined the angles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along a ruler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5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Findings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Student at work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821960" y="2566800"/>
            <a:ext cx="3600000" cy="52675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 rot="5400000">
            <a:off x="6985080" y="1873800"/>
            <a:ext cx="3816000" cy="650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Student at work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 rot="5400000">
            <a:off x="4117320" y="349920"/>
            <a:ext cx="5707080" cy="9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Find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22860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Some students cut out three triangles and lined up the angles to form a straight line.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Student at work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 rot="10800000">
            <a:off x="3622320" y="2212920"/>
            <a:ext cx="5400360" cy="65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Finding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22860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It was 10 minutes before students began to fold the triangle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5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Initially there was confusion about which way to fold the triangle, but eventually some students succeeded.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0">
              <a:lnSpc>
                <a:spcPct val="15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Student at work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2325960" y="2068560"/>
            <a:ext cx="7200360" cy="64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5400" spc="-1" strike="noStrike">
                <a:solidFill>
                  <a:schemeClr val="dk2"/>
                </a:solidFill>
                <a:latin typeface="Arial"/>
                <a:ea typeface="Arial"/>
              </a:rPr>
              <a:t>Details of target stud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2nd year Higher Level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45 Minute clas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Geometry -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Review and Extend the prior knowledge of the student, using investigative methods leading to formal proof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487800" indent="0">
              <a:lnSpc>
                <a:spcPct val="100000"/>
              </a:lnSpc>
              <a:spcBef>
                <a:spcPts val="85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100" spc="-1" strike="noStrike">
                <a:solidFill>
                  <a:srgbClr val="572314"/>
                </a:solidFill>
                <a:latin typeface="Gill Sans MT"/>
              </a:rPr>
              <a:t>Students work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Shape 335" descr=""/>
          <p:cNvPicPr/>
          <p:nvPr/>
        </p:nvPicPr>
        <p:blipFill>
          <a:blip r:embed="rId1"/>
          <a:stretch/>
        </p:blipFill>
        <p:spPr>
          <a:xfrm rot="5400000">
            <a:off x="3442320" y="808200"/>
            <a:ext cx="6768360" cy="9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1821960" y="1852560"/>
            <a:ext cx="9883800" cy="6000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228600"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Eventually, one student discovered using alternate angles and straight line angles to prove that the angles inside any triangle added to give 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Findings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821960" y="1852560"/>
            <a:ext cx="9883800" cy="6000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22860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All anticipated answers were solved by the clas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Different approaches to the same solution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Findings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Board at close of lesson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Shape 342" descr=""/>
          <p:cNvPicPr/>
          <p:nvPr/>
        </p:nvPicPr>
        <p:blipFill>
          <a:blip r:embed="rId1"/>
          <a:stretch/>
        </p:blipFill>
        <p:spPr>
          <a:xfrm>
            <a:off x="1533960" y="1996560"/>
            <a:ext cx="10664280" cy="67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677960" y="2181960"/>
            <a:ext cx="10008720" cy="64882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117000" indent="0">
              <a:lnSpc>
                <a:spcPct val="100000"/>
              </a:lnSpc>
              <a:spcBef>
                <a:spcPts val="853"/>
              </a:spcBef>
              <a:buNone/>
              <a:tabLst>
                <a:tab algn="l" pos="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Gill Sans MT"/>
              </a:rPr>
              <a:t>Our plan was: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Gill Sans MT"/>
              </a:rPr>
              <a:t>To have all possible solutions physically ready to show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Gill Sans MT"/>
              </a:rPr>
              <a:t>Talk through each one, starting with the simplest or most obviou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Gill Sans MT"/>
              </a:rPr>
              <a:t>Have students explain their method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Gill Sans MT"/>
              </a:rPr>
              <a:t>Discuss any unexpected solution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520200" indent="-403200">
              <a:lnSpc>
                <a:spcPct val="10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Gill Sans MT"/>
              </a:rPr>
              <a:t>Discuss any errors or misconceptions 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Shape 303"/>
          <p:cNvSpPr/>
          <p:nvPr/>
        </p:nvSpPr>
        <p:spPr>
          <a:xfrm>
            <a:off x="1389960" y="556200"/>
            <a:ext cx="113770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9960" rIns="129960" tIns="65160" bIns="65160" anchor="ctr">
            <a:no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Discussion and close of lesson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100" spc="-1" strike="noStrike">
                <a:solidFill>
                  <a:srgbClr val="572314"/>
                </a:solidFill>
                <a:latin typeface="Gill Sans MT"/>
              </a:rPr>
              <a:t>Misconceptions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22860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One student cut triangles in half not knowing why he was doing so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Other students cut out angles and made a circl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Misconceptions led to findings in some case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Recommenda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677960" y="206856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ave scissors/ protractor etc in a bag on the table before students arriv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and out all worksheets together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Wingdings 2" charset="2"/>
              <a:buChar char=""/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ell them the number of possible solutions that ‘you’ could find to encourage them to find at least that many ways independently or as a group. 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Any 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Sources Us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041920" y="2059200"/>
            <a:ext cx="10663560" cy="68270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marL="457200" indent="-501480">
              <a:lnSpc>
                <a:spcPct val="100000"/>
              </a:lnSpc>
              <a:spcBef>
                <a:spcPts val="859"/>
              </a:spcBef>
              <a:buClr>
                <a:srgbClr val="4f271c"/>
              </a:buClr>
              <a:buFont typeface="Arial"/>
              <a:buChar char=""/>
            </a:pPr>
            <a:r>
              <a:rPr b="0" lang="en-US" sz="4600" spc="-1" strike="noStrike">
                <a:solidFill>
                  <a:srgbClr val="000000"/>
                </a:solidFill>
                <a:latin typeface="Gill Sans MT"/>
              </a:rPr>
              <a:t>Syllabus</a:t>
            </a:r>
            <a:endParaRPr b="0" lang="en-US" sz="4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5854320" y="2284560"/>
            <a:ext cx="4608000" cy="64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83480" y="4516920"/>
            <a:ext cx="12090600" cy="27360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8000" spc="-1" strike="noStrike">
                <a:solidFill>
                  <a:schemeClr val="dk1"/>
                </a:solidFill>
                <a:latin typeface="Arial"/>
                <a:ea typeface="Arial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Shape 365" descr=""/>
          <p:cNvPicPr/>
          <p:nvPr/>
        </p:nvPicPr>
        <p:blipFill>
          <a:blip r:embed="rId1"/>
          <a:stretch/>
        </p:blipFill>
        <p:spPr>
          <a:xfrm>
            <a:off x="5024520" y="2356560"/>
            <a:ext cx="3274920" cy="1845720"/>
          </a:xfrm>
          <a:prstGeom prst="rect">
            <a:avLst/>
          </a:prstGeom>
          <a:ln w="0">
            <a:noFill/>
          </a:ln>
        </p:spPr>
      </p:pic>
      <p:pic>
        <p:nvPicPr>
          <p:cNvPr id="286" name="Shape 366" descr=""/>
          <p:cNvPicPr/>
          <p:nvPr/>
        </p:nvPicPr>
        <p:blipFill>
          <a:blip r:embed="rId2"/>
          <a:stretch/>
        </p:blipFill>
        <p:spPr>
          <a:xfrm>
            <a:off x="1294920" y="8337600"/>
            <a:ext cx="10467720" cy="1247400"/>
          </a:xfrm>
          <a:prstGeom prst="rect">
            <a:avLst/>
          </a:prstGeom>
          <a:ln w="0">
            <a:noFill/>
          </a:ln>
        </p:spPr>
      </p:pic>
      <p:sp>
        <p:nvSpPr>
          <p:cNvPr id="287" name="Shape 367"/>
          <p:cNvSpPr/>
          <p:nvPr/>
        </p:nvSpPr>
        <p:spPr>
          <a:xfrm>
            <a:off x="761400" y="196560"/>
            <a:ext cx="1153512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en-US" sz="10600" spc="-1" strike="noStrike">
                <a:solidFill>
                  <a:schemeClr val="dk2"/>
                </a:solidFill>
                <a:latin typeface="Architects Daughter"/>
                <a:ea typeface="Architects Daughter"/>
              </a:rPr>
              <a:t>Maths Counts 2016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65960" y="556200"/>
            <a:ext cx="9211320" cy="115164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IE" sz="6100" spc="-1" strike="noStrike">
                <a:solidFill>
                  <a:srgbClr val="572314"/>
                </a:solidFill>
                <a:latin typeface="Gill Sans MT"/>
              </a:rPr>
              <a:t>Aims of the lesson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555560" y="1852560"/>
            <a:ext cx="11449080" cy="7272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0" bIns="65160" anchor="t">
            <a:noAutofit/>
          </a:bodyPr>
          <a:p>
            <a:pPr marL="457200" indent="-457200">
              <a:lnSpc>
                <a:spcPct val="15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n-IE" sz="3600" spc="-1" strike="noStrike">
                <a:solidFill>
                  <a:srgbClr val="361309"/>
                </a:solidFill>
                <a:latin typeface="Gill Sans MT"/>
              </a:rPr>
              <a:t>To appreciate the value of a proof, realizing the importance of “never assumi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n-IE" sz="3600" spc="-1" strike="noStrike">
                <a:solidFill>
                  <a:srgbClr val="361309"/>
                </a:solidFill>
                <a:latin typeface="Gill Sans MT"/>
              </a:rPr>
              <a:t>Encourage independent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n-IE" sz="3600" spc="-1" strike="noStrike">
                <a:solidFill>
                  <a:srgbClr val="361309"/>
                </a:solidFill>
                <a:latin typeface="Gill Sans MT"/>
              </a:rPr>
              <a:t>Promote creativity and imag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n-IE" sz="3600" spc="-1" strike="noStrike">
                <a:solidFill>
                  <a:srgbClr val="361309"/>
                </a:solidFill>
                <a:latin typeface="Gill Sans MT"/>
              </a:rPr>
              <a:t>Build enthusiasm by engaging with stimulating activ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Arial"/>
              <a:buChar char="•"/>
            </a:pPr>
            <a:r>
              <a:rPr b="0" lang="en-IE" sz="3600" spc="-1" strike="noStrike">
                <a:solidFill>
                  <a:srgbClr val="361309"/>
                </a:solidFill>
                <a:latin typeface="Gill Sans MT"/>
              </a:rPr>
              <a:t>Encourage students to be comfortable in trying different methods to solve problems, and to realise that there are often numerous valid approaches to do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Student Learning Go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749960" y="2068560"/>
            <a:ext cx="10656720" cy="69123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Gill Sans MT"/>
              </a:rPr>
              <a:t>Students will see many approaches to proving the sum of all angles in a triangle is  through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571680" indent="-57168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Gill Sans MT"/>
              </a:rPr>
              <a:t>Peer teaching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571680" indent="-57168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Gill Sans MT"/>
              </a:rPr>
              <a:t>Discovery learning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571680" indent="-571680">
              <a:lnSpc>
                <a:spcPct val="15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Gill Sans MT"/>
              </a:rPr>
              <a:t>Use of prior knowledge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Gill Sans MT"/>
              </a:rPr>
              <a:t>They will appreciate the value of proof and realize the importance of never assuming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6000" spc="-1" strike="noStrike">
                <a:solidFill>
                  <a:schemeClr val="dk2"/>
                </a:solidFill>
                <a:latin typeface="Arial"/>
                <a:ea typeface="Arial"/>
              </a:rPr>
              <a:t>Topic of Less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49960" y="2356560"/>
            <a:ext cx="10387800" cy="620460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e decided on a topic and discussed as a group the area the students found difficult.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e all agreed from past experience that, while most students did remember,  they lacked an understanding of why the sum of the angles in a triangle is 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We set a goal for students to realize the importance of never assuming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100" spc="-1" strike="noStrike">
                <a:solidFill>
                  <a:srgbClr val="572314"/>
                </a:solidFill>
                <a:latin typeface="Gill Sans MT"/>
              </a:rPr>
              <a:t>Design of the Lesson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49960" y="1780560"/>
            <a:ext cx="10368720" cy="682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228600">
              <a:lnSpc>
                <a:spcPct val="20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Place students in groups being mindful of ability levels (1min)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20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Recap on previous lesson (5mins)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228600">
              <a:lnSpc>
                <a:spcPct val="200000"/>
              </a:lnSpc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Pose the question -  What does the sum of the angles inside a triangle equal? Discuss (2mins)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041920" y="390600"/>
            <a:ext cx="10663560" cy="162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6100" spc="-1" strike="noStrike">
                <a:solidFill>
                  <a:srgbClr val="572314"/>
                </a:solidFill>
                <a:latin typeface="Gill Sans MT"/>
              </a:rPr>
              <a:t>Design of the Lesson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01960" y="2059200"/>
            <a:ext cx="11232720" cy="6827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520200" indent="-403200">
              <a:lnSpc>
                <a:spcPct val="15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IE" sz="4000" spc="-1" strike="noStrike">
                <a:solidFill>
                  <a:srgbClr val="000000"/>
                </a:solidFill>
                <a:latin typeface="Gill Sans MT"/>
              </a:rPr>
              <a:t>One member of each group holds up their triangle and gives their decision.  Students then see their triangles are different yet they have all made the same decision.   (1min)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520200" indent="-403200">
              <a:lnSpc>
                <a:spcPct val="150000"/>
              </a:lnSpc>
              <a:spcBef>
                <a:spcPts val="853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en-IE" sz="4000" spc="-1" strike="noStrike">
                <a:solidFill>
                  <a:srgbClr val="000000"/>
                </a:solidFill>
                <a:latin typeface="Gill Sans MT"/>
              </a:rPr>
              <a:t>Students are then asked how can this be true since all the triangles are different and asked could they prove their decision.   (5mins)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olstice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olstice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  <Words>1013</Words>
  <Paragraphs>13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1T12:55:23Z</dcterms:created>
  <dc:creator>Sharon</dc:creator>
  <dc:description/>
  <dc:language>en-US</dc:language>
  <cp:lastModifiedBy>Anne Brosnan</cp:lastModifiedBy>
  <dcterms:modified xsi:type="dcterms:W3CDTF">2016-03-31T12:56:20Z</dcterms:modified>
  <cp:revision>25</cp:revision>
  <dc:subject/>
  <dc:title>Reflections on Pract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8</vt:r8>
  </property>
  <property fmtid="{D5CDD505-2E9C-101B-9397-08002B2CF9AE}" pid="3" name="PresentationFormat">
    <vt:lpwstr>Custom</vt:lpwstr>
  </property>
  <property fmtid="{D5CDD505-2E9C-101B-9397-08002B2CF9AE}" pid="4" name="Slides">
    <vt:r8>49</vt:r8>
  </property>
</Properties>
</file>