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C97-30B2-4EAB-A2A1-E73D3017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937-5A97-401D-B99B-8F72FFEE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483-5771-4DA9-838D-4D6C2973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CC9-B2E1-4181-8849-8499A04A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C127-5BCB-4FEF-9CE8-9DB3B608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975-E3D2-4700-96E6-A685D94C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71E9-882E-40E6-91AF-CDB8314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3147-A0FB-4642-8CFA-2AF2DD4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E2D-44CD-4A50-9929-6EC139B3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B59B-E63C-4AB1-9D08-CF0AEDC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5761-D7B3-4942-9CA9-905CE00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4EF-4853-4152-8427-3215AFC5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DDAF-2FDF-42A4-8B88-15ED34D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F36-5832-4DFB-B5C1-CE8E9F9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74E-9F1B-438F-8B18-5F51353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99F-182B-4B9B-A33E-DFF74609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3DE-52CF-4587-8327-92EA78AA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AAC2-2AF3-4651-A508-9D652B5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957C-9980-4B0B-85BC-4C401626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F028-15E0-4954-A72F-3FD0D07D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771A-1339-4304-A07C-504C1A63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F35C-68A8-476D-AF5D-9EDD6850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A42-0541-4AA7-9309-7B83DE15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C5E8-1F78-481D-8BEA-7F39736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023A-9454-4FE8-A307-7338633C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1C06-066E-4A9B-BB31-775A9E6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6730-803B-4672-AC36-8161D9C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3B6A-627B-46E6-AD68-041247F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BCB3-73CA-426B-81A9-7BC29BE7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3FFE-7A24-474B-8F5B-E53EF5F9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E1F-ADAE-41AA-B758-8D9B93A1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A55-0072-4895-BCF3-AC2C0DA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6C4-0E72-4D07-9B0E-40E0520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74C-5927-48D6-9415-FE608AE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A9F-1901-4671-8CEB-E4C0AD4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F14-650F-4DB5-9644-B35606A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6600" indent="-406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5400" indent="-3250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556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18F01-682E-4E48-A7D0-1AAFB36AC883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 flipV="1">
            <a:off x="1950840" y="433080"/>
            <a:ext cx="360" cy="18432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pic>
        <p:nvPicPr>
          <p:cNvPr id="42" name="Picture 2" descr="http://www.projectmaths.ie/wp-content/uploads/2015/01/mathscounts.png"/>
          <p:cNvPicPr/>
          <p:nvPr/>
        </p:nvPicPr>
        <p:blipFill>
          <a:blip r:embed="rId2"/>
          <a:srcRect l="14080" t="0" r="0" b="0"/>
          <a:stretch/>
        </p:blipFill>
        <p:spPr>
          <a:xfrm>
            <a:off x="11557080" y="8827920"/>
            <a:ext cx="1398960" cy="9140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GB" sz="4300" spc="-1" strike="noStrike">
              <a:solidFill>
                <a:srgbClr val="ffffff"/>
              </a:solidFill>
              <a:latin typeface="Chalkduster"/>
              <a:ea typeface="Chalkduster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GB" sz="4300" spc="-1" strike="noStrike">
              <a:solidFill>
                <a:srgbClr val="ffffff"/>
              </a:solidFill>
              <a:latin typeface="Chalkduster"/>
              <a:ea typeface="Chalkduster"/>
            </a:endParaRPr>
          </a:p>
        </p:txBody>
      </p:sp>
      <p:pic>
        <p:nvPicPr>
          <p:cNvPr id="45" name="Picture 6" descr="Deele-College-Logo-RGB-72dpi"/>
          <p:cNvPicPr/>
          <p:nvPr/>
        </p:nvPicPr>
        <p:blipFill>
          <a:blip r:embed="rId3"/>
          <a:stretch/>
        </p:blipFill>
        <p:spPr>
          <a:xfrm>
            <a:off x="287640" y="212040"/>
            <a:ext cx="1504440" cy="228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Click to edit Master text style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  <a:ea typeface="MS PGothic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Segoe Print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cccccc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Segoe Print"/>
                <a:ea typeface="MS PGothic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Segoe Print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428040" y="8886960"/>
            <a:ext cx="270936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659480" y="8886960"/>
            <a:ext cx="411912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2166840" y="8886960"/>
            <a:ext cx="184284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094CC4-1F18-41F2-902B-6E2CDB5B1DEA}" type="slidenum">
              <a: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6600" indent="-406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5400" indent="-3250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556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6C51C9-61D7-45EC-9196-3B5F411DC177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rojectmaths.ie/" TargetMode="External"/><Relationship Id="rId2" Type="http://schemas.openxmlformats.org/officeDocument/2006/relationships/hyperlink" Target="http://www.projectmaths.ie/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3480" y="343656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Reflections on Practice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29" name="Picture 4" descr="tile_blackboard_green"/>
          <p:cNvPicPr/>
          <p:nvPr/>
        </p:nvPicPr>
        <p:blipFill>
          <a:blip r:embed="rId1"/>
          <a:stretch/>
        </p:blipFill>
        <p:spPr>
          <a:xfrm>
            <a:off x="5395320" y="2305440"/>
            <a:ext cx="2555640" cy="1694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tile_blackboard_green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399600" y="196560"/>
            <a:ext cx="12258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Pictures of Student Work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50" name="Picture 2" descr="Displaying IMG_3268.JPG"/>
          <p:cNvPicPr/>
          <p:nvPr/>
        </p:nvPicPr>
        <p:blipFill>
          <a:blip r:embed="rId1"/>
          <a:stretch/>
        </p:blipFill>
        <p:spPr>
          <a:xfrm>
            <a:off x="669600" y="2356560"/>
            <a:ext cx="5343120" cy="712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isplaying IMG_3273.JPG"/>
          <p:cNvPicPr/>
          <p:nvPr/>
        </p:nvPicPr>
        <p:blipFill>
          <a:blip r:embed="rId2"/>
          <a:stretch/>
        </p:blipFill>
        <p:spPr>
          <a:xfrm>
            <a:off x="6718320" y="2428560"/>
            <a:ext cx="531864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Findings / Student Learning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9600" y="2572560"/>
            <a:ext cx="12313080" cy="6624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720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3600" spc="-1" strike="noStrike">
                <a:solidFill>
                  <a:srgbClr val="000000"/>
                </a:solidFill>
                <a:latin typeface="Segoe Print"/>
                <a:ea typeface="MS PGothic"/>
              </a:rPr>
              <a:t>Tendency to early misunderstandings</a:t>
            </a:r>
            <a:endParaRPr b="0" lang="en-US" sz="36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720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3600" spc="-1" strike="noStrike">
                <a:solidFill>
                  <a:srgbClr val="000000"/>
                </a:solidFill>
                <a:latin typeface="Segoe Print"/>
                <a:ea typeface="MS PGothic"/>
              </a:rPr>
              <a:t>Competence in use of Pythagoras</a:t>
            </a:r>
            <a:endParaRPr b="0" lang="en-US" sz="36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720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3600" spc="-1" strike="noStrike">
                <a:solidFill>
                  <a:srgbClr val="000000"/>
                </a:solidFill>
                <a:latin typeface="Segoe Print"/>
                <a:ea typeface="MS PGothic"/>
              </a:rPr>
              <a:t>Allow groups time to explore problems</a:t>
            </a:r>
            <a:endParaRPr b="0" lang="en-US" sz="36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Segoe Print"/>
            </a:endParaRPr>
          </a:p>
        </p:txBody>
      </p:sp>
      <p:pic>
        <p:nvPicPr>
          <p:cNvPr id="154" name="Picture 4" descr="Displaying IMG_3271.JPG"/>
          <p:cNvPicPr/>
          <p:nvPr/>
        </p:nvPicPr>
        <p:blipFill>
          <a:blip r:embed="rId1"/>
          <a:stretch/>
        </p:blipFill>
        <p:spPr>
          <a:xfrm>
            <a:off x="3981960" y="4444920"/>
            <a:ext cx="480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Evidence of Student Learning 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56" name="Picture 2" descr="Displaying IMG_3277.JPG"/>
          <p:cNvPicPr/>
          <p:nvPr/>
        </p:nvPicPr>
        <p:blipFill>
          <a:blip r:embed="rId1"/>
          <a:stretch/>
        </p:blipFill>
        <p:spPr>
          <a:xfrm>
            <a:off x="669600" y="3292560"/>
            <a:ext cx="3203640" cy="427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Displaying IMG_3280.JPG"/>
          <p:cNvPicPr/>
          <p:nvPr/>
        </p:nvPicPr>
        <p:blipFill>
          <a:blip r:embed="rId2"/>
          <a:stretch/>
        </p:blipFill>
        <p:spPr>
          <a:xfrm rot="10800000">
            <a:off x="4198680" y="3766680"/>
            <a:ext cx="3384000" cy="261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Displaying IMG_3282.JPG"/>
          <p:cNvPicPr/>
          <p:nvPr/>
        </p:nvPicPr>
        <p:blipFill>
          <a:blip r:embed="rId3"/>
          <a:stretch/>
        </p:blipFill>
        <p:spPr>
          <a:xfrm rot="16200000">
            <a:off x="7666560" y="3809520"/>
            <a:ext cx="4118760" cy="30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buNone/>
            </a:pPr>
            <a:endParaRPr b="0" lang="en-US" sz="4800" spc="-1" strike="noStrike">
              <a:solidFill>
                <a:srgbClr val="000000"/>
              </a:solidFill>
              <a:latin typeface="Segoe Print"/>
              <a:ea typeface="MS P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Segoe Print"/>
              <a:ea typeface="MS PGothic"/>
            </a:endParaRPr>
          </a:p>
        </p:txBody>
      </p:sp>
      <p:pic>
        <p:nvPicPr>
          <p:cNvPr id="161" name="Picture 4" descr="Displaying IMG_3280.JPG"/>
          <p:cNvPicPr/>
          <p:nvPr/>
        </p:nvPicPr>
        <p:blipFill>
          <a:blip r:embed="rId1"/>
          <a:stretch/>
        </p:blipFill>
        <p:spPr>
          <a:xfrm rot="10800000">
            <a:off x="184680" y="-6840"/>
            <a:ext cx="12635640" cy="97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Board Plan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63" name="Picture 2" descr="Displaying IMG_3266.JPG"/>
          <p:cNvPicPr/>
          <p:nvPr/>
        </p:nvPicPr>
        <p:blipFill>
          <a:blip r:embed="rId1"/>
          <a:stretch/>
        </p:blipFill>
        <p:spPr>
          <a:xfrm>
            <a:off x="1893960" y="3220560"/>
            <a:ext cx="3742920" cy="49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Displaying IMG_3289.JPG"/>
          <p:cNvPicPr/>
          <p:nvPr/>
        </p:nvPicPr>
        <p:blipFill>
          <a:blip r:embed="rId2"/>
          <a:stretch/>
        </p:blipFill>
        <p:spPr>
          <a:xfrm>
            <a:off x="7006320" y="3220560"/>
            <a:ext cx="3742920" cy="49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Recommendations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Give time to explore, discus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Don’t interfere at early stage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Cultivate idea of varied approache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Monitor workings of group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Importance of communication and presentation by student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Sources Used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5600" y="2709720"/>
            <a:ext cx="1197180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Active Maths Textbook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Text and Tests Textbook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Past Examination Papers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ject Maths Workshops 2, 3, 6, 9, 10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NCCA J.C 2016, L.C 2015 Syllabuses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oogle Searches on Multiple Approach Problem Solving in Geometry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 u="sng">
                <a:solidFill>
                  <a:srgbClr val="006666"/>
                </a:solidFill>
                <a:uFillTx/>
                <a:latin typeface="Comic Sans MS"/>
                <a:ea typeface="MS PGothic"/>
                <a:hlinkClick r:id="rId1"/>
              </a:rPr>
              <a:t>www.projectmaths.ie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  <a:p>
            <a:pPr marL="743040" indent="-743040">
              <a:lnSpc>
                <a:spcPct val="10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Arial"/>
              <a:buAutoNum type="arabicPeriod"/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eometry Teaching and Learning Plans on </a:t>
            </a:r>
            <a:r>
              <a:rPr b="0" lang="en-IE" sz="3200" spc="-1" strike="noStrike" u="sng">
                <a:solidFill>
                  <a:srgbClr val="006666"/>
                </a:solidFill>
                <a:uFillTx/>
                <a:latin typeface="Comic Sans MS"/>
                <a:ea typeface="MS PGothic"/>
                <a:hlinkClick r:id="rId2"/>
              </a:rPr>
              <a:t>www.projectmaths.ie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Any Questions?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3480" y="451692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71" name="Picture 4" descr="tile_blackboard_green"/>
          <p:cNvPicPr/>
          <p:nvPr/>
        </p:nvPicPr>
        <p:blipFill>
          <a:blip r:embed="rId1"/>
          <a:stretch/>
        </p:blipFill>
        <p:spPr>
          <a:xfrm>
            <a:off x="5024520" y="2356560"/>
            <a:ext cx="3274920" cy="1845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ile_blackboard_green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399600" y="196560"/>
            <a:ext cx="12258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6840" y="1204560"/>
            <a:ext cx="9970560" cy="1238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4800" spc="-1" strike="noStrike" u="sng">
                <a:solidFill>
                  <a:srgbClr val="000000"/>
                </a:solidFill>
                <a:uFillTx/>
                <a:latin typeface="Segoe Print"/>
                <a:ea typeface="MS PGothic"/>
              </a:rPr>
              <a:t>Exploration of properties of basic geometric shape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graphicFrame>
        <p:nvGraphicFramePr>
          <p:cNvPr id="133" name="Table 3"/>
          <p:cNvGraphicFramePr/>
          <p:nvPr/>
        </p:nvGraphicFramePr>
        <p:xfrm>
          <a:off x="936000" y="2999880"/>
          <a:ext cx="11132280" cy="5196960"/>
        </p:xfrm>
        <a:graphic>
          <a:graphicData uri="http://schemas.openxmlformats.org/drawingml/2006/table">
            <a:tbl>
              <a:tblPr/>
              <a:tblGrid>
                <a:gridCol w="4392360"/>
                <a:gridCol w="6739920"/>
              </a:tblGrid>
              <a:tr h="15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200" spc="-1" strike="noStrike">
                          <a:solidFill>
                            <a:srgbClr val="c00000"/>
                          </a:solidFill>
                          <a:latin typeface="Arial"/>
                          <a:ea typeface="ＭＳ Ｐゴシック"/>
                        </a:rPr>
                        <a:t>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ele College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phoe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. Doneg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200" spc="-1" strike="noStrike">
                          <a:solidFill>
                            <a:srgbClr val="c00000"/>
                          </a:solidFill>
                          <a:latin typeface="Arial"/>
                          <a:ea typeface="ＭＳ Ｐゴシック"/>
                        </a:rPr>
                        <a:t>Teachers Involv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ureen O’Donn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itriona O’Mall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ddy Fl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even Gibs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ivienne Dohe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eah Hark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Details of our lesson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9600" y="2572560"/>
            <a:ext cx="12169080" cy="6480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6</a:t>
            </a:r>
            <a:r>
              <a:rPr b="0" lang="en-IE" sz="4300" spc="-1" strike="noStrike" baseline="30000">
                <a:solidFill>
                  <a:srgbClr val="000000"/>
                </a:solidFill>
                <a:latin typeface="Segoe Print"/>
                <a:ea typeface="ＭＳ Ｐゴシック"/>
              </a:rPr>
              <a:t>th</a:t>
            </a: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 Year Ordinary Level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35 minute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7</a:t>
            </a:r>
            <a:r>
              <a:rPr b="0" lang="en-IE" sz="4300" spc="-1" strike="noStrike" baseline="30000">
                <a:solidFill>
                  <a:srgbClr val="000000"/>
                </a:solidFill>
                <a:latin typeface="Segoe Print"/>
                <a:ea typeface="ＭＳ Ｐゴシック"/>
              </a:rPr>
              <a:t>th</a:t>
            </a: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 March 2016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</p:txBody>
      </p:sp>
      <p:graphicFrame>
        <p:nvGraphicFramePr>
          <p:cNvPr id="136" name="Table 1"/>
          <p:cNvGraphicFramePr/>
          <p:nvPr/>
        </p:nvGraphicFramePr>
        <p:xfrm>
          <a:off x="237600" y="4948920"/>
          <a:ext cx="12457080" cy="3600000"/>
        </p:xfrm>
        <a:graphic>
          <a:graphicData uri="http://schemas.openxmlformats.org/drawingml/2006/table">
            <a:tbl>
              <a:tblPr/>
              <a:tblGrid>
                <a:gridCol w="5090400"/>
                <a:gridCol w="7366680"/>
              </a:tblGrid>
              <a:tr h="119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vious Less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ordinate geometry – length &amp; Pythagor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600" spc="-1" strike="noStrike">
                          <a:solidFill>
                            <a:srgbClr val="c00000"/>
                          </a:solidFill>
                          <a:latin typeface="Arial"/>
                          <a:ea typeface="ＭＳ Ｐゴシック"/>
                        </a:rPr>
                        <a:t>Research Less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E" sz="3600" spc="-1" strike="noStrike">
                          <a:solidFill>
                            <a:srgbClr val="c00000"/>
                          </a:solidFill>
                          <a:latin typeface="Arial"/>
                          <a:ea typeface="ＭＳ Ｐゴシック"/>
                        </a:rPr>
                        <a:t>Basic geometric problem – area of squ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lanned Next Less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E" sz="3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xtension activities that may ari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336666"/>
                      </a:solidFill>
                    </a:lnL>
                    <a:lnR w="12240">
                      <a:solidFill>
                        <a:srgbClr val="336666"/>
                      </a:solidFill>
                    </a:lnR>
                    <a:lnT w="12240">
                      <a:solidFill>
                        <a:srgbClr val="336666"/>
                      </a:solidFill>
                    </a:lnT>
                    <a:lnB w="1224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Our Question – Find area of quadrilateral PQRS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38" name="Picture 2" descr="Displaying IMG_3275.JPG"/>
          <p:cNvPicPr/>
          <p:nvPr/>
        </p:nvPicPr>
        <p:blipFill>
          <a:blip r:embed="rId1"/>
          <a:srcRect l="50589" t="2611" r="0" b="32047"/>
          <a:stretch/>
        </p:blipFill>
        <p:spPr>
          <a:xfrm>
            <a:off x="3117960" y="3075480"/>
            <a:ext cx="5544360" cy="55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Segoe Print"/>
                <a:ea typeface="ＭＳ Ｐゴシック"/>
              </a:rPr>
              <a:t>Student Learning Goals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solve problems involving the length of sides and area of triangles, squares and rectangles, along with combination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use the theorem of Pythagoras to solve problems involving right-angled triangle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calculate the length of a line segment and area of a triangle using coordinate geometry formulae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use trigonometry to calculate the area of a triangle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explore links between various approaches to solving problem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devise appropriate mathematical models and use appropriate techniques to analyse problem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work effectively as a group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communicate mathematical work effectively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Design of Lesson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c00000"/>
                </a:solidFill>
                <a:latin typeface="Segoe Print"/>
                <a:ea typeface="MS PGothic"/>
              </a:rPr>
              <a:t>Pre-evaluation and Plan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Inform students in advance about arrangements - guest and extra teachers and observation 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Work in groups of four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c00000"/>
                </a:solidFill>
                <a:latin typeface="Segoe Print"/>
                <a:ea typeface="MS PGothic"/>
              </a:rPr>
              <a:t>Outline solutions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Teacher group develops outline solutions based on anticipated responses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Students will develop these on whiteboard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c00000"/>
                </a:solidFill>
                <a:latin typeface="Segoe Print"/>
                <a:ea typeface="MS PGothic"/>
              </a:rPr>
              <a:t>Differentiation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Differentiated level of discussion - level of questioning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Extra work to do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Help for students with difficulties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c00000"/>
                </a:solidFill>
                <a:latin typeface="Segoe Print"/>
                <a:ea typeface="MS PGothic"/>
              </a:rPr>
              <a:t>Other issues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Segoe Print"/>
                <a:ea typeface="MS PGothic"/>
              </a:rPr>
              <a:t>Are the flow, content and methodologies of the lesson effectively achieving the learning outcomes?</a:t>
            </a:r>
            <a:endParaRPr b="0" lang="en-US" sz="20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Materials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A3, A4 Worksheet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Blank paper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Geometry equipment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Scissor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Segoe Print"/>
                <a:ea typeface="MS PGothic"/>
              </a:rPr>
              <a:t>Calculator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Plan for Peer Observation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3600" y="2709720"/>
            <a:ext cx="12313080" cy="5851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c00000"/>
                </a:solidFill>
                <a:latin typeface="Segoe Print"/>
                <a:ea typeface="MS PGothic"/>
              </a:rPr>
              <a:t>Plan to observe student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each teacher will observe one group of four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each teacher will be given observation templates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c00000"/>
                </a:solidFill>
                <a:latin typeface="Segoe Print"/>
                <a:ea typeface="MS PGothic"/>
              </a:rPr>
              <a:t>What to observe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how effectively are the groups going about the problem?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what difficulties or confusion are being encountered?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presentation of work?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dynamics of group work - recommendations to make these more effective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Segoe Print"/>
                <a:ea typeface="MS PGothic"/>
              </a:rPr>
              <a:t>preparation to communicate solution on whiteboard to class - effective?</a:t>
            </a:r>
            <a:endParaRPr b="0" lang="en-US" sz="28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4800" spc="-1" strike="noStrike">
                <a:solidFill>
                  <a:srgbClr val="000000"/>
                </a:solidFill>
                <a:latin typeface="Segoe Print"/>
                <a:ea typeface="MS PGothic"/>
              </a:rPr>
              <a:t>Unexpected Findings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9600" y="2572560"/>
            <a:ext cx="12313080" cy="6624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Extent of student engagement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Group self-correction : |PQ|≠3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Importance of adequate time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Variety of approache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Student tendency to round off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  <a:p>
            <a:pPr marL="487800" indent="-48780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c00000"/>
                </a:solidFill>
                <a:latin typeface="Comic Sans MS"/>
                <a:ea typeface="MS PGothic"/>
              </a:rPr>
              <a:t>Clarity of student comments</a:t>
            </a:r>
            <a:endParaRPr b="0" lang="en-US" sz="43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  <Words>480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8:53:58Z</dcterms:created>
  <dc:creator>Kieran Sweeney</dc:creator>
  <dc:description/>
  <dc:language>en-US</dc:language>
  <cp:lastModifiedBy>Anne Brosnan</cp:lastModifiedBy>
  <dcterms:modified xsi:type="dcterms:W3CDTF">2016-04-07T18:54:08Z</dcterms:modified>
  <cp:revision>42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18</vt:r8>
  </property>
</Properties>
</file>