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300" spc="-1" strike="noStrike">
                <a:solidFill>
                  <a:srgbClr val="ffffff"/>
                </a:solidFill>
                <a:latin typeface="Chalkduster"/>
              </a:rPr>
              <a:t>Click to move the slide</a:t>
            </a: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BCCF4-07DE-4F56-98B0-7C4D5A891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venir"/>
                <a:ea typeface="Avenir"/>
              </a:rPr>
              <a:t>Refer to note 3 of less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venir"/>
                <a:ea typeface="Avenir"/>
              </a:rPr>
              <a:t>Refer to note 3 of less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venir"/>
                <a:ea typeface="Avenir"/>
              </a:rPr>
              <a:t>Refer to note 3 of less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88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IE" sz="2000" spc="-1" strike="noStrike">
                <a:solidFill>
                  <a:srgbClr val="000000"/>
                </a:solidFill>
                <a:latin typeface="Avenir"/>
                <a:ea typeface="Avenir"/>
              </a:rPr>
              <a:t>Refer to notes 5-9 of lesson plan during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B868-BDF4-4ACD-B2F2-B6F405C7D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9B17-186C-4E4C-A5EE-E8F5BCB5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160-E4FC-4C50-A36E-71D8967B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7DC-3E5C-4ED3-8E64-DCE6B02E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5531-1E2B-402B-ADE4-6D746D95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9D37-BA71-4565-8224-1D76EDC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3B9E-355C-432A-86A1-C0C516F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D1F8-1C0C-45D6-BADE-A233F823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E377-E4D9-4BD3-AC95-6FA8D2E3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9847-9E0E-4E1C-8FC7-123B05F1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5EB3-47DC-4646-AC62-4D87BCF8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DA7-4608-4A88-9B8D-67BEB22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900A-4558-4D2C-BA87-A5C2EB8F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4AFC-188D-4350-872C-1073C53E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5392-5023-486C-BDC9-0D1F9D1A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1261-83B4-41CF-A499-39BC3409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0B75-3508-4A47-8E7E-14D79608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D4AA-A590-4D87-A2F0-60FE0461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C5246-5C1D-4796-8AF1-ABD19ACE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B1B1-67DD-457C-9DB5-72AEBD31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60C16-2702-40DB-A419-E7D0D5BB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67C2-CF54-4F66-AB82-632F245F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2E3-1FB9-42A6-9A33-430E463E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9E6F7-DA2C-48FE-AC38-2D8ADAEB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B6CEC-D0E3-4AD9-A760-9CB63F47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B97A1-D6FC-44BF-B491-FEBDBFB4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C873-BBFC-4EEA-8536-FD203B85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0A699-9E9C-4A03-8563-FDC2805D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B5803-DAEB-4947-BED9-DB151EBD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46BE-E8C3-4964-B46C-2F0054D5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6E06D-C297-43B8-A5AE-296FCA1E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F7FD1-9973-428F-A3CB-54E982D7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9B25E-C37C-466A-972C-F87B167A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79C1-F335-41A0-A6C5-55B68779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850F4-C591-4D55-AC0E-2B6277A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72F7B-AF2F-4F1F-93E0-6D2697C2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BCCE7-4CD5-4AE3-BB0F-095A6CEB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7AD9-1746-4CFC-A692-B445CB30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9C07-77C2-4FA6-B76D-30CAE06D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0B5F1-231E-4F24-A45F-FA568F3F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87048-E18C-4B4F-A406-CC40AB0A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FF940-837B-4F16-B1BF-D58398A9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764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564760" y="227664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B34E-74C3-4856-A0E8-F9DB959D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272-7F3C-4E39-A143-BCB1C7A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600"/>
            <a:ext cx="1170252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012-E48C-4DD1-B7B9-E42AE7EB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0D2-7F8A-4FFA-A6B4-FD7352D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64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E39-B42A-4E77-92EA-4D03AC99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640"/>
            <a:ext cx="571068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520" cy="306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7BC-1BC2-4C57-804A-ED4DBEC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3960" indent="-32400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484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880" y="9040680"/>
            <a:ext cx="303336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904068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0040" y="9040680"/>
            <a:ext cx="303336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A58160-EEA1-4024-AD61-11D57D0B311B}" type="slidenum"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 flipV="1">
            <a:off x="1950840" y="433080"/>
            <a:ext cx="360" cy="18432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sp>
        <p:nvSpPr>
          <p:cNvPr id="42" name="Oval 8"/>
          <p:cNvSpPr/>
          <p:nvPr/>
        </p:nvSpPr>
        <p:spPr>
          <a:xfrm>
            <a:off x="217440" y="1192320"/>
            <a:ext cx="323640" cy="325080"/>
          </a:xfrm>
          <a:prstGeom prst="ellipse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68240" y="1192320"/>
            <a:ext cx="323640" cy="32508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9040" y="1192320"/>
            <a:ext cx="323640" cy="32508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itle style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99cccc"/>
              </a:buClr>
              <a:buSzPct val="75000"/>
              <a:buFont typeface="Wingdings" charset="2"/>
              <a:buChar char="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623960" indent="-324000">
              <a:lnSpc>
                <a:spcPct val="100000"/>
              </a:lnSpc>
              <a:spcBef>
                <a:spcPts val="680"/>
              </a:spcBef>
              <a:buClr>
                <a:srgbClr val="cccccc"/>
              </a:buClr>
              <a:buFont typeface="Symbol" charset="2"/>
              <a:buChar char=""/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74840" indent="-32400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92572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9428040" y="8886960"/>
            <a:ext cx="270936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659480" y="8886960"/>
            <a:ext cx="411912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166840" y="8886960"/>
            <a:ext cx="184284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BEB9C9-DF61-4A6F-9CA8-BB615EAE979F}" type="slidenum">
              <a: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7"/>
          <p:cNvSpPr/>
          <p:nvPr/>
        </p:nvSpPr>
        <p:spPr>
          <a:xfrm flipV="1">
            <a:off x="1950840" y="433080"/>
            <a:ext cx="360" cy="1843200"/>
          </a:xfrm>
          <a:prstGeom prst="line">
            <a:avLst/>
          </a:prstGeom>
          <a:ln w="381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sp>
        <p:nvSpPr>
          <p:cNvPr id="87" name="Oval 8" hidden="1"/>
          <p:cNvSpPr/>
          <p:nvPr/>
        </p:nvSpPr>
        <p:spPr>
          <a:xfrm>
            <a:off x="217440" y="1192320"/>
            <a:ext cx="323640" cy="325080"/>
          </a:xfrm>
          <a:prstGeom prst="ellipse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88" name="Oval 9" hidden="1"/>
          <p:cNvSpPr/>
          <p:nvPr/>
        </p:nvSpPr>
        <p:spPr>
          <a:xfrm>
            <a:off x="768240" y="1192320"/>
            <a:ext cx="323640" cy="32508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89" name="Oval 10" hidden="1"/>
          <p:cNvSpPr/>
          <p:nvPr/>
        </p:nvSpPr>
        <p:spPr>
          <a:xfrm>
            <a:off x="1319040" y="1192320"/>
            <a:ext cx="323640" cy="32508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0" name="Line 7"/>
          <p:cNvSpPr/>
          <p:nvPr/>
        </p:nvSpPr>
        <p:spPr>
          <a:xfrm>
            <a:off x="2709720" y="1733400"/>
            <a:ext cx="360" cy="2925720"/>
          </a:xfrm>
          <a:prstGeom prst="line">
            <a:avLst/>
          </a:prstGeom>
          <a:ln w="349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t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  <a:ea typeface="ＭＳ Ｐゴシック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1840" y="2990880"/>
            <a:ext cx="495000" cy="495000"/>
          </a:xfrm>
          <a:prstGeom prst="ellipse">
            <a:avLst/>
          </a:prstGeom>
          <a:solidFill>
            <a:schemeClr val="tx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2" name="Oval 9"/>
          <p:cNvSpPr/>
          <p:nvPr/>
        </p:nvSpPr>
        <p:spPr>
          <a:xfrm>
            <a:off x="1052640" y="2994120"/>
            <a:ext cx="496440" cy="493200"/>
          </a:xfrm>
          <a:prstGeom prst="ellipse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3" name="Oval 10"/>
          <p:cNvSpPr/>
          <p:nvPr/>
        </p:nvSpPr>
        <p:spPr>
          <a:xfrm>
            <a:off x="1873080" y="2994120"/>
            <a:ext cx="495000" cy="493200"/>
          </a:xfrm>
          <a:prstGeom prst="ellipse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3400" spc="-1" strike="noStrike">
              <a:solidFill>
                <a:srgbClr val="336666"/>
              </a:solidFill>
              <a:latin typeface="Times New Roman"/>
              <a:ea typeface="ＭＳ Ｐゴシック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4440" y="1950840"/>
            <a:ext cx="9211320" cy="2492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itle style</a:t>
            </a:r>
            <a:endParaRPr b="0" lang="en-US" sz="77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10078920" y="8886960"/>
            <a:ext cx="216648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8"/>
          </p:nvPr>
        </p:nvSpPr>
        <p:spPr>
          <a:xfrm>
            <a:off x="5418000" y="8886960"/>
            <a:ext cx="411768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9"/>
          </p:nvPr>
        </p:nvSpPr>
        <p:spPr>
          <a:xfrm>
            <a:off x="3143160" y="8886960"/>
            <a:ext cx="1733040" cy="6490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29960" rIns="129960" tIns="65160" bIns="6516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18270E-6E5E-4BEC-96C7-4746FFAF818D}" type="slidenum">
              <a:rPr b="0" lang="en-US" sz="2000" spc="-1" strike="noStrike">
                <a:solidFill>
                  <a:srgbClr val="336666"/>
                </a:solidFill>
                <a:latin typeface="Chalkduster"/>
                <a:ea typeface="Chalkduster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880" y="390600"/>
            <a:ext cx="11702520" cy="16254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6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50880" y="2276640"/>
            <a:ext cx="11702520" cy="6435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055520" indent="-40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623960" indent="-32400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227484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925720" indent="-324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50880" y="9040680"/>
            <a:ext cx="303336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443480" y="904068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20040" y="9040680"/>
            <a:ext cx="303336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DFD063-BB73-4736-BD72-7FF3D91BEF2A}" type="slidenum">
              <a:rPr b="0" lang="en-GB" sz="17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3960" y="4084560"/>
            <a:ext cx="12089880" cy="2734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en-US" sz="8000" spc="-1" strike="noStrike">
                <a:solidFill>
                  <a:srgbClr val="000000"/>
                </a:solidFill>
                <a:latin typeface="Bradley Hand ITC"/>
              </a:rPr>
              <a:t>Reflections on Practice</a:t>
            </a:r>
            <a:endParaRPr b="0" lang="en-US" sz="8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183" name="Picture 4" descr="tile_blackboard_green"/>
          <p:cNvPicPr/>
          <p:nvPr/>
        </p:nvPicPr>
        <p:blipFill>
          <a:blip r:embed="rId1"/>
          <a:stretch/>
        </p:blipFill>
        <p:spPr>
          <a:xfrm>
            <a:off x="5396040" y="2305080"/>
            <a:ext cx="2555640" cy="1695240"/>
          </a:xfrm>
          <a:prstGeom prst="rect">
            <a:avLst/>
          </a:prstGeom>
          <a:ln w="9525">
            <a:noFill/>
          </a:ln>
        </p:spPr>
      </p:pic>
      <p:pic>
        <p:nvPicPr>
          <p:cNvPr id="184" name="Picture 6" descr="tile_blackboard_green"/>
          <p:cNvPicPr/>
          <p:nvPr/>
        </p:nvPicPr>
        <p:blipFill>
          <a:blip r:embed="rId2"/>
          <a:stretch/>
        </p:blipFill>
        <p:spPr>
          <a:xfrm>
            <a:off x="1295280" y="8337600"/>
            <a:ext cx="10467720" cy="1247400"/>
          </a:xfrm>
          <a:prstGeom prst="rect">
            <a:avLst/>
          </a:prstGeom>
          <a:ln w="9525">
            <a:noFill/>
          </a:ln>
        </p:spPr>
      </p:pic>
      <p:sp>
        <p:nvSpPr>
          <p:cNvPr id="185" name="TextBox 3"/>
          <p:cNvSpPr/>
          <p:nvPr/>
        </p:nvSpPr>
        <p:spPr>
          <a:xfrm>
            <a:off x="399960" y="196920"/>
            <a:ext cx="12258720" cy="170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1f497d"/>
                </a:solidFill>
                <a:latin typeface="Bradley Hand ITC"/>
                <a:ea typeface="Chalkdus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Plan for Peer Observatio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181240" y="271620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An observation record is used during the lesson to assess students thinking and expansion of mathematical relationships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refer to appendix 3 of lesson plan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general consensus was that individual work allowed students to engage and allow for further clarification of outcomes among the group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Confidence levels increased across the group and weaker students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 contd.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Observers agreed thelesson was successful and more time for student feedback was desirabl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he success of this teaching technique is dependent on a good teacher pupil relationship, clearly evident in this lesson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/Student Learning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Lesson criteria was understood by the majority of stud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Little time was given to student instruc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ran out of strategies and included incorrect answers as they felt the need to insert answers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 contd.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thinking it was a minimum of 2 construction lines to be used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 were unaware that triangles were the only shape permitted, accidental quadrilaterals produced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A lack of focus as time progress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Two students came up with solutions not anticipat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Findings contd.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Positive feedback was experienced by all stud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Preparation of visual displays was time consuming, however, very effectiv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Students were more attentive to peers and learned from them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1240" y="26820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Board Pla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181240" y="271620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pic>
        <p:nvPicPr>
          <p:cNvPr id="216" name="Picture 4" descr="maths pic"/>
          <p:cNvPicPr/>
          <p:nvPr/>
        </p:nvPicPr>
        <p:blipFill>
          <a:blip r:embed="rId1"/>
          <a:stretch/>
        </p:blipFill>
        <p:spPr>
          <a:xfrm>
            <a:off x="1389240" y="2355840"/>
            <a:ext cx="10297800" cy="6447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Recommendation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tudents should read instructions and teacher questions for understanding prior to activit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7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Lesson should be carried out in a standard class room, (this lesson was conducted in a science laborator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1240" y="26820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7200" spc="-1" strike="noStrike">
                <a:solidFill>
                  <a:srgbClr val="000000"/>
                </a:solidFill>
                <a:latin typeface="Bradley Hand ITC"/>
                <a:ea typeface="MS PGothic"/>
              </a:rPr>
              <a:t>Questions anyone??</a:t>
            </a:r>
            <a:endParaRPr b="0" lang="en-US" sz="72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220" name="Picture 3" descr="55120727"/>
          <p:cNvPicPr/>
          <p:nvPr/>
        </p:nvPicPr>
        <p:blipFill>
          <a:blip r:embed="rId1"/>
          <a:stretch/>
        </p:blipFill>
        <p:spPr>
          <a:xfrm>
            <a:off x="4054320" y="2573280"/>
            <a:ext cx="4762080" cy="56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Sources Used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Junior certificate mathematics syllabu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Various JC maths textbook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Instructional video from Drumcondra reflections on practice pilot lesson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1240" y="26820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IE" sz="6600" spc="-1" strike="noStrike">
                <a:solidFill>
                  <a:srgbClr val="000000"/>
                </a:solidFill>
                <a:latin typeface="Comic Sans MS"/>
                <a:ea typeface="MS PGothic"/>
              </a:rPr>
              <a:t>GEOMETRY and Types of Triangles</a:t>
            </a:r>
            <a:endParaRPr b="0" lang="en-US" sz="66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181240" y="271620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486xNxpnemonic-rose"/>
          <p:cNvPicPr/>
          <p:nvPr/>
        </p:nvPicPr>
        <p:blipFill>
          <a:blip r:embed="rId1"/>
          <a:stretch/>
        </p:blipFill>
        <p:spPr>
          <a:xfrm>
            <a:off x="2398680" y="3292560"/>
            <a:ext cx="9289800" cy="482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84200" y="4516560"/>
            <a:ext cx="12089880" cy="2736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chemeClr val="accent2"/>
                </a:solidFill>
                <a:latin typeface="Bradley Hand ITC"/>
              </a:rPr>
              <a:t>Thank you for your attention after such a long day of presentations.</a:t>
            </a:r>
            <a:br>
              <a:rPr sz="5400"/>
            </a:br>
            <a:r>
              <a:rPr b="1" lang="en-US" sz="5400" spc="-1" strike="noStrike">
                <a:solidFill>
                  <a:schemeClr val="accent2"/>
                </a:solidFill>
                <a:latin typeface="Bradley Hand ITC"/>
              </a:rPr>
              <a:t>Jimmy Meaney</a:t>
            </a:r>
            <a:br>
              <a:rPr sz="5400"/>
            </a:br>
            <a:r>
              <a:rPr b="1" lang="en-US" sz="5400" spc="-1" strike="noStrike">
                <a:solidFill>
                  <a:schemeClr val="accent2"/>
                </a:solidFill>
                <a:latin typeface="Bradley Hand ITC"/>
              </a:rPr>
              <a:t>meano@me.com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224" name="Picture 4" descr="tile_blackboard_green"/>
          <p:cNvPicPr/>
          <p:nvPr/>
        </p:nvPicPr>
        <p:blipFill>
          <a:blip r:embed="rId1"/>
          <a:stretch/>
        </p:blipFill>
        <p:spPr>
          <a:xfrm>
            <a:off x="4989600" y="2355840"/>
            <a:ext cx="3274560" cy="1846080"/>
          </a:xfrm>
          <a:prstGeom prst="rect">
            <a:avLst/>
          </a:prstGeom>
          <a:ln w="9525">
            <a:noFill/>
          </a:ln>
        </p:spPr>
      </p:pic>
      <p:pic>
        <p:nvPicPr>
          <p:cNvPr id="225" name="Picture 6" descr="tile_blackboard_green"/>
          <p:cNvPicPr/>
          <p:nvPr/>
        </p:nvPicPr>
        <p:blipFill>
          <a:blip r:embed="rId2"/>
          <a:stretch/>
        </p:blipFill>
        <p:spPr>
          <a:xfrm>
            <a:off x="1295280" y="8337600"/>
            <a:ext cx="10467720" cy="1247400"/>
          </a:xfrm>
          <a:prstGeom prst="rect">
            <a:avLst/>
          </a:prstGeom>
          <a:ln w="9525">
            <a:noFill/>
          </a:ln>
        </p:spPr>
      </p:pic>
      <p:sp>
        <p:nvSpPr>
          <p:cNvPr id="226" name="TextBox 6"/>
          <p:cNvSpPr/>
          <p:nvPr/>
        </p:nvSpPr>
        <p:spPr>
          <a:xfrm>
            <a:off x="399240" y="196920"/>
            <a:ext cx="12258720" cy="170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600" spc="-1" strike="noStrike">
                <a:solidFill>
                  <a:srgbClr val="1f497d"/>
                </a:solidFill>
                <a:latin typeface="Bradley Hand ITC"/>
                <a:ea typeface="Chalkdus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6320" y="1276200"/>
            <a:ext cx="9359640" cy="6840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  <a:ea typeface="MS PGothic"/>
              </a:rPr>
              <a:t>Jimmy Meaney, Ramsgrange Community School, Wexford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  <a:ea typeface="MS PGothic"/>
              </a:rPr>
              <a:t>Mary Lenane, CBS Carrick on Suir, Tipperar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  <a:ea typeface="MS PGothic"/>
              </a:rPr>
              <a:t>Sean Ryan, Rockwell, Tipperary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radley Hand ITC"/>
                <a:ea typeface="MS PGothic"/>
              </a:rPr>
              <a:t>Mary Hally, Ard Scoil na Mara, Tramore, Waterford</a:t>
            </a:r>
            <a:br>
              <a:rPr sz="40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his lesson is for a 1</a:t>
            </a:r>
            <a:r>
              <a:rPr b="0" lang="en-IE" sz="4000" spc="-1" strike="noStrike" baseline="30000">
                <a:solidFill>
                  <a:srgbClr val="000000"/>
                </a:solidFill>
                <a:latin typeface="Comic Sans MS"/>
                <a:ea typeface="MS PGothic"/>
              </a:rPr>
              <a:t>st</a:t>
            </a:r>
            <a:r>
              <a:rPr b="0" lang="en-IE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 year group who have prior knowledge of geometry from previous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length of lesson, 35 m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Date of the lesson, 29/1/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This is lesson designed to slot in after 6/8 lessons an geometry with up to 4 lessons required to complete sec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Learning Goa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81900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Aims of the Les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Long term goal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8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appreciate that mathematics can be used to communicate thinking effectively, through reflection and expansion of mathematic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8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will become independent lear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8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become more creative when devising approaches and methods to solving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8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discover that any problem can have several equally valid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80000"/>
              </a:lnSpc>
              <a:spcBef>
                <a:spcPts val="64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  <a:ea typeface="MS PGothic"/>
              </a:rPr>
              <a:t>Build upon my students’ enthusiasm for the subject by engaging them with stimulat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900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Learning Goa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819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19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en-IE" sz="4500" spc="-1" strike="noStrike">
                <a:solidFill>
                  <a:srgbClr val="000000"/>
                </a:solidFill>
                <a:latin typeface="Comic Sans MS"/>
                <a:ea typeface="MS PGothic"/>
              </a:rPr>
              <a:t>Short term goals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45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will be able name the triangles and identify different characteristics of each typ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9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45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will use appropriate language when describing triangles, i.e. right angle, isosceles and scalen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udent Learning Goa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819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  <a:ea typeface="MS PGothic"/>
              </a:rPr>
              <a:t>Learning Outcomes: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819000" indent="-819000">
              <a:lnSpc>
                <a:spcPct val="100000"/>
              </a:lnSpc>
              <a:spcBef>
                <a:spcPts val="9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will name and describe the fundamental characteristics of the 3 of the main types the triangles in geometry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1240" y="26820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Design of Lesson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66840" y="270972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We first researched the maths inspectorate reports where inspectors are looking for more differentiation built into lessons, catering directly for the learner diversity within each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The theme of the research is learning through problem solving with the distinct aim of students expressing thoughts in logical steps using words, numbers and diagra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  <a:ea typeface="MS PGothic"/>
              </a:rPr>
              <a:t>Students also listen others thoughts and deepen their understanding by noticing similarities and differen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66840" y="271440"/>
            <a:ext cx="9970560" cy="2171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000" spc="-1" strike="noStrike">
                <a:solidFill>
                  <a:srgbClr val="000000"/>
                </a:solidFill>
                <a:latin typeface="Arial"/>
                <a:ea typeface="MS PGothic"/>
              </a:rPr>
              <a:t>Materials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81240" y="2716200"/>
            <a:ext cx="997056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129960" rIns="129960" tIns="65160" bIns="65160" anchor="t">
            <a:noAutofit/>
          </a:bodyPr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Cut outs of different triangle typ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Predesigned worksheets, see appendix 1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Pencils and rulers each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Flip chart and blue tack for students presentation sheets to be displaye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00000"/>
              </a:lnSpc>
              <a:spcBef>
                <a:spcPts val="859"/>
              </a:spcBef>
              <a:buClr>
                <a:srgbClr val="336666"/>
              </a:buClr>
              <a:buSzPct val="70000"/>
              <a:buFont typeface="Wingdings" charset="2"/>
              <a:buChar char=""/>
            </a:pPr>
            <a:r>
              <a:rPr b="0" lang="en-IE" sz="43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records for teachers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Echo">
  <a:themeElements>
    <a:clrScheme name="Echo 7">
      <a:dk1>
        <a:srgbClr val="336666"/>
      </a:dk1>
      <a:lt1>
        <a:srgbClr val="ffffff"/>
      </a:lt1>
      <a:dk2>
        <a:srgbClr val="000000"/>
      </a:dk2>
      <a:lt2>
        <a:srgbClr val="666699"/>
      </a:lt2>
      <a:accent1>
        <a:srgbClr val="99cccc"/>
      </a:accent1>
      <a:accent2>
        <a:srgbClr val="cccccc"/>
      </a:accent2>
      <a:accent3>
        <a:srgbClr val="ffffff"/>
      </a:accent3>
      <a:accent4>
        <a:srgbClr val="2a5656"/>
      </a:accent4>
      <a:accent5>
        <a:srgbClr val="cae2e2"/>
      </a:accent5>
      <a:accent6>
        <a:srgbClr val="b9b9b9"/>
      </a:accent6>
      <a:hlink>
        <a:srgbClr val="006666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  <Words>704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7T18:39:33Z</dcterms:created>
  <dc:creator>Kieran Sweeney</dc:creator>
  <dc:description/>
  <dc:language>en-US</dc:language>
  <cp:lastModifiedBy>Anne Brosnan</cp:lastModifiedBy>
  <dcterms:modified xsi:type="dcterms:W3CDTF">2016-04-07T18:40:26Z</dcterms:modified>
  <cp:revision>17</cp:revision>
  <dc:subject/>
  <dc:title>Reflections o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6</vt:r8>
  </property>
  <property fmtid="{D5CDD505-2E9C-101B-9397-08002B2CF9AE}" pid="3" name="PresentationFormat">
    <vt:lpwstr>Custom</vt:lpwstr>
  </property>
  <property fmtid="{D5CDD505-2E9C-101B-9397-08002B2CF9AE}" pid="4" name="Slides">
    <vt:r8>20</vt:r8>
  </property>
</Properties>
</file>