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EE2-EAA9-4444-A3D1-218679EB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7C10-12A5-43AB-89C7-480EB221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C78-3218-4066-9CB7-4C9EC252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308-07F3-4DB0-AEF5-140CFF19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54C-2EF1-4C79-982F-7F3760AA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322-2301-4406-9A28-70EC649A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4B5-7C2B-4E04-B691-1945F090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BCB3-675E-480C-965C-39EF32B2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053-632B-4625-A790-30B1DE81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3EC-1C2D-4893-A277-51C1AD61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FBD-16CB-444D-8AC3-45B66EA6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0FA-E78F-4DEC-8199-244317D6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F10-6A4F-488A-8554-C997A44CF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E10-22C5-4CFC-B891-D61B159E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321-32C2-468B-9C0E-429828654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B3DF-DC7D-42A0-8896-F5206C28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450-F647-473F-9AC0-59C88F42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B4FE-2227-4E38-A078-427D2BAA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49C-2950-4F0B-881C-FC401EC2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B4E9-B3E6-471E-8E15-4B30C126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E7B-77DC-408D-8A8B-BDB39C62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9C97-1E81-461E-A305-DD94F7DC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108-5FB9-43F9-9B5E-445660DE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71C9-8A6B-4B5F-B7A4-F5EEE213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7D4-CCA4-42A0-AD01-A6F8B72C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4BED-BCC1-4F54-B3E3-A3B316E7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7C1-05D2-4382-B905-1D41E017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D25-52DC-4A8A-8464-ADF30B15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AB3-2759-4994-B176-B9F7DADE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164B-C63B-4ED0-8B2D-03981B36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DF3F-D301-4FC3-A5D1-AD0272F8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0A7-FE2F-4AF6-9FDD-6A8FDD64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291-A37F-4631-8F91-7019907B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AFA1-8E20-4184-B424-57E77696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441-5914-4BC9-833E-07EE4F23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39E7-362F-4835-9504-804F945C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6A7E-EF54-41AB-BA9C-7D2A8DA7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EC46-1734-49CD-8FFA-594935B2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196B-3B5D-4838-8C0B-F8C5941C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6F64-ED8C-4303-8BFC-CEDAD36F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782-9570-47E1-819D-594ADFDD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BED4-CE43-4563-8D4D-05A377F7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A82-BCE8-422B-B1A3-EA77BCF5B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E52-9F47-43BB-995E-5C980818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846-83B4-4B1A-8492-064AEF33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DC6-EC9B-47DE-A960-BF0AF49C7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9AF-68EC-449C-8625-33A30BF7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DBB-1A6D-48F7-A350-7932A609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E0BD-1F97-4768-8DF7-977DAD03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1E4-8C0B-428B-A4AF-9E27DCDC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CC6-D2B7-47B4-8FFC-A203E1A7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E7F5-8FAB-45DB-B232-018FDCB4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C0F7-CECF-48D8-A292-0269C500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FD4C-F455-4952-A3FA-C30BE709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ED78-55B2-4645-9EAF-A543EFE3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773-155B-4379-8C26-005C6361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9808-D0FC-4703-94F2-86BC4010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AC7-93F5-4A07-8F45-57626C17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7A7-4DFE-472D-B315-C5CFE167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75E-CC02-4B39-882E-93409B9F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ABE-1545-40EA-A8E7-6855A6F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6F6-1F9E-48C9-9A42-D2D37B26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4D1-53FB-414F-9094-B4187934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DC1-39A1-4400-82C1-AF5EA8A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179-B3DD-4224-87BC-1BC6D8F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B70-20F8-49EC-9003-DADAEEB0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2EB-4DA5-4B21-989B-D3E6298B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940-7A66-4287-844A-FD30421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48C-0EFD-4154-9C60-A66D494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79C-7176-4E83-974E-6A39367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59B-72EA-4998-AA7D-F86ECE83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454-95ED-4340-807F-97CAFAB5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óchúlac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ail an tSuimi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illeataí (diamond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1873440" cy="24476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éarataí (sp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2016000" cy="165564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iuchanna (cl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201600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mó cárta i ngach da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4. An mó cárta i ngach dath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628040" cy="37335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4. An mó cárta i ngach dath?  1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7628040" cy="373392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5. Liostaigh na cártaí i ngach d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5. Liostaigh na cártaí i ngach d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627680" cy="373392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neoi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. An mó cárta atá i bpaca cártaí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6. Cad is ainm don cárta le A scríbhte 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6. Cad is ainm don cárta le A scríbhte 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on  (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7. An mó pictiúrchárta atá i bpaca cártaí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7. An mó pictiúrchárta atá i bpaca cártaí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627680" cy="373392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7. An mó pictiúrchárta atá i bpaca cártaí? 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2879640" cy="388800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8. Ainmnigh na pictiúrchárta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eaic (Cuile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nraí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óchúl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1187280" y="2633760"/>
                <a:ext cx="597708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n méid fothorthaí fábhrach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 méid fothorthaí féideartha</m:t>
                            </m:r>
                          </m:den>
                        </m:f>
                      </m:e>
                      <m:e/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mó Rí atá i bpa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mó Rí atá i bpa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28920" cy="369576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tá ann gur Rí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neoi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 mó cárta atá i bpaca cártaí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857160" y="2714760"/>
            <a:ext cx="6840720" cy="334800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247760" y="3500280"/>
                <a:ext cx="387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í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279440" y="3659040"/>
                <a:ext cx="38102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í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nn gur Jeaic (Cuileata)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Jeaic (Cuileata) a roghnó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39640" y="3500280"/>
                <a:ext cx="403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eai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Jeaiceann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Jeaic (Cuileata) a roghnó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9640" y="3606840"/>
                <a:ext cx="40388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eai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Jeaiceann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Jeaic (Cuileata)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826920" y="4005360"/>
                <a:ext cx="6624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eaic nó Rí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Jeaiceanna agus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1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Jeaic (Cuileata)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826920" y="4127400"/>
                <a:ext cx="6624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eaic nó Rí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Jeaiceanna agus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tá ann gur Banríon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11280" y="3789360"/>
                <a:ext cx="7200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nraío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Banrí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611280" y="3973680"/>
                <a:ext cx="720072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nraío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Banrí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mó dath (suit) atá i bpaca cártaí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nn gur cárta dearg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808200" y="3789360"/>
                <a:ext cx="77436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árta Dear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gCártaí Dear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808200" y="3897360"/>
                <a:ext cx="77436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árta Dear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gCártaí Dear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nn gur cárta dearg nó Banríon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nó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395280" y="3933720"/>
                <a:ext cx="7993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árta</m:t>
                        </m:r>
                        <m:r>
                          <m:rPr>
                            <m:lit/>
                            <m:nor/>
                          </m:rPr>
                          <m:t xml:space="preserve"> Dearg nó Banraío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gCártaí Dear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íon na Banrín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b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nó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401840" y="3645000"/>
                <a:ext cx="65563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 nó Banraío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íon na gCártaí Dearg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íon na Banrín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bh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íon na gCártaí </m:t>
                            </m:r>
                          </m:den>
                        </m:f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873000" y="3573360"/>
                <a:ext cx="71089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í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tá ann gur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860400" y="3851280"/>
                <a:ext cx="71341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í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Rith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én dóchúlacht ann gur Triuf a roghnóf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468360" y="3645000"/>
                <a:ext cx="799128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Triuchann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mó dath (suit) atá i bpaca cártaí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468360" y="3832200"/>
                <a:ext cx="799128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Triuchann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468360" y="4005360"/>
                <a:ext cx="8064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 nó Rí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íon na Triuchann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Líon na Rithe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ch triuf iad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íon na gCártaí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611280" y="3716280"/>
                <a:ext cx="79214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uf nó Rí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íon na Triuchanna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íon na Rithe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ch triuf iad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íon na gCártaí</m:t>
                            </m:r>
                          </m:den>
                        </m:f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ra mbeadh paca cártaí agat, cén sort sloinn (cothromóid) a d’úsáidfeá chun ceisteanna 2 (iii) &amp; 3 (iii) a fhreagai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ura mbeadh paca cártaí agat, cén sort sloinn (cothromóid) a d’úsáidfeá chun ceisteanna 2 (iii) &amp; 3 (iii) a fhreaga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39640" y="4149720"/>
                <a:ext cx="8209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 nó 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 agus 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nó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50920" y="4005360"/>
                <a:ext cx="86421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 nó Banraíon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nraío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 agus Banraío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2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cárta dearg nó Banríon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39640" y="3860640"/>
                <a:ext cx="82090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 nó Banraíon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nraío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árta Dearg agus Banraíon</m:t>
                            </m:r>
                          </m:e>
                        </m:d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324000" y="3789360"/>
                <a:ext cx="8208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 nó Rí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í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iuf agus Rí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én dóchúlacht ann gur Triuf nó Rí a roghnóf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179280" y="3357720"/>
                <a:ext cx="871380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uf nó Rí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uf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í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uf agus Rí</m:t>
                            </m:r>
                          </m:e>
                        </m:d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3.  Ainmnigh na dathanna. (sui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1727280" cy="165564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artanna (Hearts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1727280" cy="165564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i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nmnigh na dath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1873440" cy="244764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Pobalscoil Chorca Dhuibhne, Dainge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08:30Z</dcterms:created>
  <dc:creator>Séamus Firtéar</dc:creator>
  <dc:description/>
  <dc:language>en-US</dc:language>
  <cp:lastModifiedBy> Gabrielle</cp:lastModifiedBy>
  <dcterms:modified xsi:type="dcterms:W3CDTF">2009-11-24T10:38:57Z</dcterms:modified>
  <cp:revision>12</cp:revision>
  <dc:subject/>
  <dc:title>Dochúlacht </dc:title>
</cp:coreProperties>
</file>