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455A-988B-4351-AFBF-232384F39391}" type="slidenum">
              <a:rPr b="0" lang="en-IE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9220-E4AA-4BD1-AD8E-96404EF7405F}" type="slidenum">
              <a:rPr b="0" lang="en-I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1B59-2E77-4B62-989B-8750D3AE31E9}" type="slidenum">
              <a:rPr b="0" lang="en-I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8E15-ACD0-466B-A161-C29E5EADFF88}" type="slidenum">
              <a:rPr b="0" lang="en-I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4392-0172-400D-BCD4-9451A9D4D7C4}" type="slidenum">
              <a:rPr b="0" lang="en-I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EFA6-4A8C-4218-BBB8-DE3B9A951F23}" type="slidenum">
              <a:rPr b="0" lang="en-I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BB3D-F532-4A63-BA2F-010341A031DE}" type="slidenum">
              <a:rPr b="0" lang="en-I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EB86-C2B2-49B5-95D9-5BF9F8F906E9}" type="slidenum">
              <a:rPr b="0" lang="en-I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251-3FFB-4B91-87DC-658B47C9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83C-F22A-4B92-964E-C6D67D01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681-7CA8-49F2-93C1-0B991556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F51-161A-4029-8742-77F4D6E4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58B-EEAC-456E-B637-9A3C9E14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ED1-15F2-4A1B-820D-5B25DF0C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629-DCF9-41C8-8907-98FB4FBD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4E9-1D01-4CE5-8899-F5FD20DD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6F6-7425-4488-88B1-9A068CE5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8FF-1456-4BD0-8E53-7E90E23E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057-4AF1-42B8-B622-6BC2BDD7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052-AAB9-451D-86F4-BDC43BC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right Scoil Mhuire Kanturk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0780-79C0-40F8-8583-58C8459DE7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Correlation Co-efficient      Line of Best Fit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right Scoil Mhuire Kantu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Correlation Co-efficient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Do we have a way of measuring correlation numerically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y calculating the Correlation Co-efficient from a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efore doing this we must understand what the  Correlation Co-efficient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right Scoil Mhuire Kantu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Correlation Co-efficient ( cont’d)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t measures (numerically) the degree of closeness to perfect positive , negative or maybe no correla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When all of the data is input into our calculator  the Correlation Co-efficient  ( denoted by the letter r) will lie between -1 and +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+ 1  ….near to perfect positive cor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- 1  …..near to perfect negative cor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0  …..no cor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right Scoil Mhuire Kantu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Line of Best Fit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s there a line that would go through the scatter of points with as many points on one side as on the other side ? To act as a spine for the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is is called the Line of Best Fit. The only reason we draw a line of Best Fit is for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om a scatter diagram we can predict the arm span of a person of height 150 c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right Scoil Mhuire Kantu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Line of Best Fit ( cont’d)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ffffff"/>
                </a:solidFill>
                <a:uFillTx/>
                <a:latin typeface="Arial"/>
              </a:rPr>
              <a:t>Interpolation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is when we make a prediction within the range of known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ffffff"/>
                </a:solidFill>
                <a:uFillTx/>
                <a:latin typeface="Arial"/>
              </a:rPr>
              <a:t>Extrapolation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s when we predict outside the range of known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 order to predict outside the range of known values we must be able to find the equation of the Line of Best Fit (by calculator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"/>
              </a:rPr>
              <a:t>Y = A + BX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right Scoil Mhuire Kantu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Equation of Line of Best 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Y=A+ B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right Scoil Mhuire Kantu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To Recap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air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catt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Correlation – Positive, Negative, Strong or W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Correlation V’s Caus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Correlation Co-e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Line of Best 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quation of Line of Best 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terpolation &amp; Extrap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right Scoil Mhuire Kantu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40:49Z</dcterms:created>
  <dc:creator>KPMG</dc:creator>
  <dc:description/>
  <dc:language>en-US</dc:language>
  <cp:lastModifiedBy> Gabrielle</cp:lastModifiedBy>
  <dcterms:modified xsi:type="dcterms:W3CDTF">2009-11-24T13:11:43Z</dcterms:modified>
  <cp:revision>22</cp:revision>
  <dc:subject/>
  <dc:title>The Circle</dc:title>
</cp:coreProperties>
</file>